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20.wmf" ContentType="image/x-wmf"/>
  <Override PartName="/ppt/media/image4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3.png" ContentType="image/png"/>
  <Override PartName="/ppt/media/image5.png" ContentType="image/png"/>
  <Override PartName="/ppt/media/image6.png" ContentType="image/png"/>
  <Override PartName="/ppt/media/image2.png" ContentType="image/pn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7E59-EE2A-4DBA-A2E8-181F3F34E8B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0B38-965C-470A-AF30-798793F9A5EC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954000" y="73512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3 Marcador de número de diapositiva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C4D4-9A94-4748-830B-595CECA0670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3 Marcador de número de diapositiva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F251-4878-4C71-B4D0-FDCD2CBF9F0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3 Marcador de número de diapositiva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DB20-C32A-49BA-A27E-733C19FDA7A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3 Marcador de número de diapositiva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9C34-4888-4CA5-8075-20845532A77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3 Marcador de número de diapositiva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E535-7439-4252-89BC-82ECE659EC5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8BF1-0A16-435C-AB57-8A6E102C1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1674-A171-4F01-BD83-38A56F3D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080F99-0BD2-482B-8E85-4E7E39CC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24A435-E0A6-4683-8F77-23CD5EE4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3B0FD9-F126-4AE7-AB9B-1A33E7D5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4E88DB-3B00-4579-B321-3ED7BF27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EE5567-747F-4961-86B5-5906C90F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52F03E-6EDC-44C5-972E-4EFC872D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8494D9-13F0-48D2-9BEA-7DCDF27B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917003-1892-4330-AECE-46865E882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5EF79D-419E-4017-8667-24329B1EF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8BD55A-7469-4789-8DF4-CCACDA2FB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ECF6-9100-4EEE-86D2-039C44E04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8C2D38-0886-42C0-8D44-6FBD5077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408423-938E-410E-85BE-F88203B5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5BBEC0-F5CF-4515-ABCD-EA748E1F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028258-8020-4FED-9DE6-D648E34F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56A848-5129-4EC8-B599-1F1B98EB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3FEEC1-E1C5-4BB3-A86E-0646DE46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51B95E-9C8E-40DD-94C3-83841E9B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F7CC8A-FF5D-4B3C-8A22-246445C3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759049-8179-4188-9553-3D80CC62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0B1205-2472-4910-9DF5-F9D29DBDE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D935-DFEF-42C2-BACB-F21614105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6D6FEB-D4B1-42BC-8D41-CEA496D6F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BD88E-4099-4AC4-B4B1-97694321D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142B45-3209-4238-B373-5DC67263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A1666-28B0-4D4B-B4C4-57DFD212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2F6CD-161F-4F97-9EC4-63926A71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CAB5E-88B3-47DC-8E18-FD7822B2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2127C-CEDD-4775-A5FD-4555433F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E709E-C434-417A-B4EC-57091D83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044D0-57BA-4CDB-A37D-A6B92301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A8351E-D4B3-4D06-8335-AFD945C1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49CA-325B-4A1F-A924-26D219EBC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D8D6A-D4D6-4D4F-BEA3-B8FD0EF1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36414-06FE-428F-AE3C-090C75616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4A51F-412E-4500-8CD2-959750162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B4E9D0-A628-4DD5-AF3D-5E6C20131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CEB7D3-ABFF-4DEA-8EA8-EE97E71F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D6B136-5E53-4843-AB21-091D813D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54AE37-DC03-44F1-A4B4-59F5D148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AE2595-C216-4B21-9F1A-0F892A3B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A82380-0E9C-47D5-9D2E-17AF6981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BE2BB5-74A6-4BA5-A541-C849AAF1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4503-BA9C-4E99-9E15-75352016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6934A4-32D8-4C60-974F-5DF30DE7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B5BF97-6208-4754-A0EF-C3FD9A4B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30FFB9-5758-4EDE-8C91-DEA45733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67E54A-9E43-442A-9147-4C22BDF6A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B17B7B-E6F4-46C4-A282-33582BF0F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FDA9-E1EB-447E-A476-D1B5082A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51A3-3882-460E-9D87-0B97E699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3CA8-75AE-44FE-B9B6-310A5932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59F3-AF40-426B-96E8-01A5A699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DB06-2FC3-494E-AC46-810C1853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3146-7BFA-45C6-B72A-9E6C687A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EA5E-11A4-46BB-9646-B72D540E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0701-B794-4097-B8C9-556FAE7C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0FAA-9C9F-42BA-9F9E-72438389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7218-12D9-4151-BC0F-80BB2C9FC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21DE-3722-4F54-B759-163A77D44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0A00B-C894-45A6-9FA3-1C4BC5CE2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BFF9D-F187-43EF-9F6B-B9A96676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D08A1-D608-4800-B1EC-FB25A8BE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CBE44-BB1A-4A68-97A8-A560FAD8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E9365-33B7-4F95-8F5A-1132F97C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557D-D015-4A3C-A2DD-6A2F4831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23A60-CF25-4436-8AAB-D714FC45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2262A-98C9-4DFE-AE8B-C28E7C3B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EBC04-2130-4987-9EB9-2D8D0FC4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4F7B9-182E-4021-95A3-A83DDFEC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D5793-0D31-43CC-BECF-FCF7E984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79FF8-BD95-43F2-A5B8-649E8980A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62C16-561A-4B4B-82FB-0CDA160F5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0EC09-7F14-4721-9041-02B26E523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A865F-9920-4DC1-B980-7F216209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21DF1-B515-4406-91E5-62F117EF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C552-89ED-42BB-870C-4072C22E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345E0-1D44-4F7E-ADDC-9A35659D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B7C22-B218-4E9D-9B04-4D85E228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0E038-A4B4-47FA-8639-9305DF37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E3F40-6B69-4103-95DE-741A8519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C4972-78DF-4F1E-A688-378B26D6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7797C-C2E5-4D0D-912C-1150F9AC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1E053-A1F8-45EE-A438-029CACC0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1620D-DDBA-437F-808A-26F7928B4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B9BFD-F82F-4A59-8846-A54EF8B11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7CF7B-0E97-42FE-B225-8C7B2BC09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EED4-1C26-4DB4-B913-A3228AF9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77FF0-E58B-474B-B5EB-16316B78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AB7C7-C516-4761-BCA6-CAB42ABD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8710A-F2DF-4229-A606-17714D13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B3BEB-67B3-4F43-9E56-87BFF511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9C39E-B782-4F22-BDDD-310AECA9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F26FD-235B-4946-B6C3-B4DC88DB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EE90C-F00F-4A42-A832-98176337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D96A8-F961-48A1-AE00-5ABD423E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3508B-5080-4D76-815D-D143E686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0D6F6-404D-4F42-A915-055AF02A5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2BB8-922B-4B1D-BDDF-101202CF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38B46-9BB3-46C5-BF83-ED284DEBF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D22A4-FF63-44F7-B5EA-C601E6B92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30D1A-AB79-4C4C-B96C-A3998F55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783B7-CB2B-4AFE-A4D0-09E9DCE9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02571-CBD2-40DE-8559-7BBC6F91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4BA78-A5C2-461B-89FD-436D5F6C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BCE53-9E86-49B8-8EDE-BCDA273C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CE92E-0108-476F-8029-19EF08D6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D7F79-38D8-434D-B216-6C669F3C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F333E-FE0D-4B33-960B-38527762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6E09-4003-485B-A031-E9C9DAA0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5EC2F-F5DA-4E5F-A7E6-6347D8A5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EE56B-300D-4405-8489-D5FECAB83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32A30-6E87-415E-B042-015AF431F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4A887-B3E9-4F44-B2B0-3F37C3C97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6B92E-0F76-45C1-A681-237D4E30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CDCEF-D6A0-4F87-9239-229A7C7D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4CDA5-F644-4359-9C36-C9E2B2D6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F02DB-D4F2-403F-A2D7-0F72F997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64ADC-A82D-4CC2-8BD2-029099C9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1986B-E452-4DCC-95B0-ED893BE3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CDE5-A6D4-40C0-9E7A-6C2216F8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C63C1-8DD6-4677-A006-A85DABE4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1CE92-B634-4CEB-B7CC-1C812C20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856A9-1C42-4FF2-A81C-CFBFBA2A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1B3CE-90D3-4ED8-B1C6-D029850F1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B237B-2744-469E-9012-C795929AC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A7E8E-A3CE-4A84-9789-8AFA0E211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55C55-C321-4A7A-A27B-ECC9B4E1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EA4E3-C43F-4036-A1C0-B89A280E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C2336-343A-42FB-8499-1B8AFBDD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0A229-CF85-468B-BDEF-AE739A07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33BC-80DD-4BB5-863F-2776B98D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644D2-59D3-47FD-A513-861AA6A3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81918-6C7F-405B-A277-73A45DAF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C4AF2-3C1E-4D02-9386-2C8F2899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A325C-A966-4DF3-8887-0CEC70CC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8CF9E-B006-470E-A99E-03A5C30E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7441A-AC5D-4336-9A9C-70EBC7BA8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9CEE9-6426-40BF-95DA-B62A2089F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843D8C-077A-4477-B0BF-951C3B038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C1BD71-BCD4-43A0-830F-4FC7B017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45C2DD-23FE-4095-A93E-BAC82228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9F68-0B3B-4447-ADFE-AA678B46DCC8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7783-612D-4B2D-9136-2CA6EFE47BFF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19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21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23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25 Rectángulo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26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2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28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29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30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EA88-4BAD-4C86-9ADD-6DAA9856B2EB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8AAF-938B-4720-A079-4DC1B0CCBB44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CAE8-517E-49AA-9E1A-415F528A0BD0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EAD2-6032-4626-B3B4-D89D445CEA4D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20 Rectángulo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21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23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24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25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26 Conector recto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27 Elipse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28 Elipse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740B-4CC1-4152-818D-A2620FC4E84E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E9AC-B64A-4F6A-B066-DC2A0F943E7F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20 Rectángulo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21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3 Rectángulo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4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5 Conector recto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6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7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8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FE97-F8D9-41AF-B92D-AB546DB6C46B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6669-153D-496C-8574-098F37D1D03E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5950-11E9-4213-A8F5-96FF31493810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53F7-614E-42DB-A9B2-27805A4BB905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9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21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23 Rectángulo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4 Rectángulo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5 Rectángulo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26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7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8 Conector recto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9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30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2FE5-3941-4928-90C9-C2E9ED2516FF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8304-4C35-4081-B1B4-5BA5B703361D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19 Conector recto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4013-20C8-4466-B8D2-440B3B99A704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5DE1-3B54-4C0F-B593-D1DB4101A6CE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19 Conector recto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20 Rectángulo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21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23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24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25 Rectángulo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26 Rectángulo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27 Conector recto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8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29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30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BCAE-03E8-437B-BAAF-5216027CA4A1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2D3F-B814-4B41-A519-E6BBA2AD5C5F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D9D9-7D11-4098-AB3A-763E185ACD66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41D9-EA3A-4ECA-BE2F-42AAEAA09906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20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21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23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24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25 Rectángulo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497F-9219-480B-BED1-44D14AAE47FC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61EC-BC9D-48B2-8C02-26EB44F621EE}" type="slidenum"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19 Rectángulo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21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23 Rectángulo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25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26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27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28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29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30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293C-F59C-4680-8B4C-A33B6F45A8F9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0E61-CDD3-409D-A2DD-A86E9A3E5520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2.png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5.png"/><Relationship Id="rId6" Type="http://schemas.openxmlformats.org/officeDocument/2006/relationships/image" Target="../media/image2.png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2"/>
          <p:cNvSpPr/>
          <p:nvPr/>
        </p:nvSpPr>
        <p:spPr>
          <a:xfrm>
            <a:off x="304920" y="1943280"/>
            <a:ext cx="8534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3"/>
          <p:cNvSpPr/>
          <p:nvPr/>
        </p:nvSpPr>
        <p:spPr>
          <a:xfrm>
            <a:off x="214200" y="6021360"/>
            <a:ext cx="1928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Arial Narrow"/>
              </a:rPr>
              <a:t>Diciembre 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4"/>
          <p:cNvSpPr/>
          <p:nvPr/>
        </p:nvSpPr>
        <p:spPr>
          <a:xfrm>
            <a:off x="0" y="426708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549360"/>
            <a:ext cx="914400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00"/>
                </a:solidFill>
                <a:latin typeface="Impact"/>
              </a:rPr>
              <a:t>PROGRAMACION DE COMPROMISOS ANUALIZADO (</a:t>
            </a:r>
            <a:r>
              <a:rPr b="0" lang="es-ES" sz="4800" spc="-1" strike="noStrike">
                <a:solidFill>
                  <a:srgbClr val="990000"/>
                </a:solidFill>
                <a:latin typeface="Impact"/>
              </a:rPr>
              <a:t>PCA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27"/>
          <p:cNvSpPr/>
          <p:nvPr/>
        </p:nvSpPr>
        <p:spPr>
          <a:xfrm>
            <a:off x="5508720" y="5948280"/>
            <a:ext cx="3527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Arial Narrow"/>
              </a:rPr>
              <a:t>MEF - DG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3 Marcador de número de diapositiva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C6C7-D66A-43E4-A65E-010FC4DECD56}" type="slidenum">
              <a:rPr b="0" lang="es-ES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13 Grupo"/>
          <p:cNvGrpSpPr/>
          <p:nvPr/>
        </p:nvGrpSpPr>
        <p:grpSpPr>
          <a:xfrm>
            <a:off x="303120" y="1989000"/>
            <a:ext cx="8372520" cy="4175640"/>
            <a:chOff x="303120" y="1989000"/>
            <a:chExt cx="8372520" cy="4175640"/>
          </a:xfrm>
        </p:grpSpPr>
        <p:grpSp>
          <p:nvGrpSpPr>
            <p:cNvPr id="620" name="12 Grupo"/>
            <p:cNvGrpSpPr/>
            <p:nvPr/>
          </p:nvGrpSpPr>
          <p:grpSpPr>
            <a:xfrm>
              <a:off x="303120" y="1989000"/>
              <a:ext cx="8372520" cy="3814920"/>
              <a:chOff x="303120" y="1989000"/>
              <a:chExt cx="8372520" cy="3814920"/>
            </a:xfrm>
          </p:grpSpPr>
          <p:sp>
            <p:nvSpPr>
              <p:cNvPr id="621" name="4 CuadroTexto"/>
              <p:cNvSpPr/>
              <p:nvPr/>
            </p:nvSpPr>
            <p:spPr>
              <a:xfrm>
                <a:off x="468360" y="1989000"/>
                <a:ext cx="241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E" sz="2400" spc="-1" strike="noStrike">
                    <a:solidFill>
                      <a:srgbClr val="000000"/>
                    </a:solidFill>
                    <a:latin typeface="Impact"/>
                  </a:rPr>
                  <a:t>QUE ES EL PCA?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6 CuadroTexto"/>
              <p:cNvSpPr/>
              <p:nvPr/>
            </p:nvSpPr>
            <p:spPr>
              <a:xfrm>
                <a:off x="395280" y="2372760"/>
                <a:ext cx="81352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E" sz="1800" spc="-1" strike="noStrike">
                    <a:solidFill>
                      <a:srgbClr val="000000"/>
                    </a:solidFill>
                    <a:latin typeface="Arial"/>
                  </a:rPr>
                  <a:t>ES UN INSTRUMENTO DE LA PROGRAMACION PRESUPUESTARIA DEL GASTO PUBLICO, QUE TIENE COMO OBJETIVO ESTABLECER LOS MONTOS MAXIMOS A COMPROMETER POR UNA ENTIDAD  DURANTE UN AÑO FISCAL DETERMINADO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8 CuadroTexto"/>
              <p:cNvSpPr/>
              <p:nvPr/>
            </p:nvSpPr>
            <p:spPr>
              <a:xfrm>
                <a:off x="303120" y="3687840"/>
                <a:ext cx="405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E" sz="2400" spc="-1" strike="noStrike">
                    <a:solidFill>
                      <a:srgbClr val="000000"/>
                    </a:solidFill>
                    <a:latin typeface="Impact"/>
                  </a:rPr>
                  <a:t>A QUIENES APLICA EL PCA?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9 CuadroTexto"/>
              <p:cNvSpPr/>
              <p:nvPr/>
            </p:nvSpPr>
            <p:spPr>
              <a:xfrm>
                <a:off x="540360" y="4234320"/>
                <a:ext cx="81352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E" sz="1800" spc="-1" strike="noStrike">
                    <a:solidFill>
                      <a:srgbClr val="000000"/>
                    </a:solidFill>
                    <a:latin typeface="Arial"/>
                  </a:rPr>
                  <a:t>APLICA AL GASTO CORRIENTE Y DE CAPITAL  DE LOS PLIEGOS DE LOS GOBIERNOS REGIONALES Y GOBIERNOS LOCALES, ASI COMO A LAS ENTIDADES DEL GOBIERNO NACION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10 CuadroTexto"/>
              <p:cNvSpPr/>
              <p:nvPr/>
            </p:nvSpPr>
            <p:spPr>
              <a:xfrm>
                <a:off x="359280" y="5344200"/>
                <a:ext cx="350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E" sz="2400" spc="-1" strike="noStrike">
                    <a:solidFill>
                      <a:srgbClr val="000000"/>
                    </a:solidFill>
                    <a:latin typeface="Impact"/>
                  </a:rPr>
                  <a:t>QUE PERSIGUE EL PCA?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6" name="11 CuadroTexto"/>
            <p:cNvSpPr/>
            <p:nvPr/>
          </p:nvSpPr>
          <p:spPr>
            <a:xfrm>
              <a:off x="539280" y="5796360"/>
              <a:ext cx="81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000000"/>
                  </a:solidFill>
                  <a:latin typeface="Arial"/>
                </a:rPr>
                <a:t>EL CUMPLIMIENTO DE LAS REGLAS FISCALES (Consumo y Déficit)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14 CuadroTexto"/>
          <p:cNvSpPr/>
          <p:nvPr/>
        </p:nvSpPr>
        <p:spPr>
          <a:xfrm>
            <a:off x="-61920" y="539640"/>
            <a:ext cx="345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000000"/>
                </a:solidFill>
                <a:latin typeface="Impact"/>
              </a:rPr>
              <a:t>CONCEP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3 Marcador de número de diapositiva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1C98-7031-4FC6-A82F-7046ACADFF44}" type="slidenum">
              <a:rPr b="0" lang="es-ES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4 CuadroTexto"/>
          <p:cNvSpPr/>
          <p:nvPr/>
        </p:nvSpPr>
        <p:spPr>
          <a:xfrm>
            <a:off x="-38520" y="1743120"/>
            <a:ext cx="45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Impact"/>
              </a:rPr>
              <a:t>COMO SE DETERMINA EL P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12 Grupo"/>
          <p:cNvGrpSpPr/>
          <p:nvPr/>
        </p:nvGrpSpPr>
        <p:grpSpPr>
          <a:xfrm>
            <a:off x="-325080" y="2311560"/>
            <a:ext cx="8927640" cy="4078800"/>
            <a:chOff x="-325080" y="2311560"/>
            <a:chExt cx="8927640" cy="4078800"/>
          </a:xfrm>
        </p:grpSpPr>
        <p:sp>
          <p:nvSpPr>
            <p:cNvPr id="631" name="6 CuadroTexto"/>
            <p:cNvSpPr/>
            <p:nvPr/>
          </p:nvSpPr>
          <p:spPr>
            <a:xfrm>
              <a:off x="324000" y="2311560"/>
              <a:ext cx="81345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000000"/>
                  </a:solidFill>
                  <a:latin typeface="Arial"/>
                </a:rPr>
                <a:t>PRINCIPALMENTE SOBRE LA BASE DE LA INFORMACION DE LA PROGRAMACION MENSUAL DE GASTOS E INFORMACION DEL NIVEL DE COMPROMISOS ASUMIDOS POR LAS ENTIDADES PUBLICAS Y EL NIVEL DE GASTO POSIBLE QUE DETERMINA EL MMM Y SUS REVISION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8 CuadroTexto"/>
            <p:cNvSpPr/>
            <p:nvPr/>
          </p:nvSpPr>
          <p:spPr>
            <a:xfrm>
              <a:off x="-325080" y="3975480"/>
              <a:ext cx="590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2400" spc="-1" strike="noStrike">
                  <a:solidFill>
                    <a:srgbClr val="000000"/>
                  </a:solidFill>
                  <a:latin typeface="Impact"/>
                </a:rPr>
                <a:t>QUIENES DEFINEN EL MONTO DEL PCA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9 CuadroTexto"/>
            <p:cNvSpPr/>
            <p:nvPr/>
          </p:nvSpPr>
          <p:spPr>
            <a:xfrm>
              <a:off x="324000" y="4509360"/>
              <a:ext cx="813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000000"/>
                  </a:solidFill>
                  <a:latin typeface="Arial"/>
                </a:rPr>
                <a:t>LA DIRECCION GENERAL DEL PRESUPUESTO PUBLICO Y LA DIRECCION  GENERAL DE ASUNTOS ENCONOMICOS Y SOCI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10 CuadroTexto"/>
            <p:cNvSpPr/>
            <p:nvPr/>
          </p:nvSpPr>
          <p:spPr>
            <a:xfrm>
              <a:off x="-282960" y="5518080"/>
              <a:ext cx="620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2400" spc="-1" strike="noStrike">
                  <a:solidFill>
                    <a:srgbClr val="000000"/>
                  </a:solidFill>
                  <a:latin typeface="Impact"/>
                </a:rPr>
                <a:t>CADA QUE TIEMPO SE ACTUALIZA EL PCA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11 CuadroTexto"/>
            <p:cNvSpPr/>
            <p:nvPr/>
          </p:nvSpPr>
          <p:spPr>
            <a:xfrm>
              <a:off x="468000" y="6022080"/>
              <a:ext cx="813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000000"/>
                  </a:solidFill>
                  <a:latin typeface="Arial"/>
                </a:rPr>
                <a:t>DE MANERA TRIMESTRAL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13 CuadroTexto"/>
          <p:cNvSpPr/>
          <p:nvPr/>
        </p:nvSpPr>
        <p:spPr>
          <a:xfrm>
            <a:off x="-61920" y="500040"/>
            <a:ext cx="345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000000"/>
                </a:solidFill>
                <a:latin typeface="Impact"/>
              </a:rPr>
              <a:t>CONCEP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3 Marcador de número de diapositiva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CBF9-AB08-4699-A34D-C79146EEB774}" type="slidenum">
              <a:rPr b="0" lang="es-ES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2" descr=""/>
          <p:cNvPicPr/>
          <p:nvPr/>
        </p:nvPicPr>
        <p:blipFill>
          <a:blip r:embed="rId1"/>
          <a:stretch/>
        </p:blipFill>
        <p:spPr>
          <a:xfrm>
            <a:off x="1643040" y="1357200"/>
            <a:ext cx="5796000" cy="4226040"/>
          </a:xfrm>
          <a:prstGeom prst="rect">
            <a:avLst/>
          </a:prstGeom>
          <a:ln w="0">
            <a:noFill/>
          </a:ln>
        </p:spPr>
      </p:pic>
      <p:sp>
        <p:nvSpPr>
          <p:cNvPr id="639" name="70 CuadroTexto"/>
          <p:cNvSpPr/>
          <p:nvPr/>
        </p:nvSpPr>
        <p:spPr>
          <a:xfrm>
            <a:off x="1571760" y="333360"/>
            <a:ext cx="5715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Impact"/>
              </a:rPr>
              <a:t>DOCUMENTOS PARA  -COMPRO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70 CuadroTexto"/>
          <p:cNvSpPr/>
          <p:nvPr/>
        </p:nvSpPr>
        <p:spPr>
          <a:xfrm>
            <a:off x="900000" y="142920"/>
            <a:ext cx="61722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Impact"/>
              </a:rPr>
              <a:t>PROCESO  DE DETERMINACION DE LA P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4 CuadroTexto"/>
          <p:cNvSpPr/>
          <p:nvPr/>
        </p:nvSpPr>
        <p:spPr>
          <a:xfrm>
            <a:off x="142920" y="2976480"/>
            <a:ext cx="1393920" cy="733320"/>
          </a:xfrm>
          <a:prstGeom prst="rect">
            <a:avLst/>
          </a:prstGeom>
          <a:solidFill>
            <a:srgbClr val="ecd6c8"/>
          </a:solidFill>
          <a:ln w="9360">
            <a:solidFill>
              <a:srgbClr val="d19049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eorgia"/>
              </a:rPr>
              <a:t>Mar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eorgia"/>
              </a:rPr>
              <a:t>Presupues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Georgia"/>
              </a:rPr>
              <a:t>PIA - P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4 CuadroTexto"/>
          <p:cNvSpPr/>
          <p:nvPr/>
        </p:nvSpPr>
        <p:spPr>
          <a:xfrm>
            <a:off x="1071720" y="2000160"/>
            <a:ext cx="1857240" cy="793800"/>
          </a:xfrm>
          <a:prstGeom prst="rect">
            <a:avLst/>
          </a:prstGeom>
          <a:solidFill>
            <a:srgbClr val="ecccc8"/>
          </a:solidFill>
          <a:ln w="9360">
            <a:solidFill>
              <a:srgbClr val="d16349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Georgia"/>
              </a:rPr>
              <a:t>Proyección   -  2011 Ingresos y </a:t>
            </a:r>
            <a:r>
              <a:rPr b="1" lang="es-MX" sz="1400" spc="-1" strike="noStrike">
                <a:solidFill>
                  <a:srgbClr val="000000"/>
                </a:solidFill>
                <a:latin typeface="Georgia"/>
              </a:rPr>
              <a:t>Ga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38 Flecha derecha"/>
          <p:cNvSpPr/>
          <p:nvPr/>
        </p:nvSpPr>
        <p:spPr>
          <a:xfrm flipV="1">
            <a:off x="1571760" y="3317040"/>
            <a:ext cx="900000" cy="73080"/>
          </a:xfrm>
          <a:prstGeom prst="rightArrow">
            <a:avLst>
              <a:gd name="adj1" fmla="val 50000"/>
              <a:gd name="adj2" fmla="val 49945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54"/>
          <p:cNvSpPr/>
          <p:nvPr/>
        </p:nvSpPr>
        <p:spPr>
          <a:xfrm>
            <a:off x="1214280" y="157176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DGAES - DG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51 Marcador de número de diapositiva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35C0-213A-478C-A3D3-354C775A8D2D}" type="slidenum">
              <a:rPr b="0" lang="es-ES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4 CuadroTexto"/>
          <p:cNvSpPr/>
          <p:nvPr/>
        </p:nvSpPr>
        <p:spPr>
          <a:xfrm>
            <a:off x="2500200" y="3059280"/>
            <a:ext cx="2428920" cy="733320"/>
          </a:xfrm>
          <a:prstGeom prst="rect">
            <a:avLst/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Georgia"/>
              </a:rPr>
              <a:t>Programación de Compromisos Anual (PCA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30 Flecha derecha"/>
          <p:cNvSpPr/>
          <p:nvPr/>
        </p:nvSpPr>
        <p:spPr>
          <a:xfrm flipV="1" rot="5400000">
            <a:off x="1639800" y="2962080"/>
            <a:ext cx="612720" cy="34920"/>
          </a:xfrm>
          <a:prstGeom prst="rightArrow">
            <a:avLst>
              <a:gd name="adj1" fmla="val 50000"/>
              <a:gd name="adj2" fmla="val 500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33 Abrir llave"/>
          <p:cNvSpPr/>
          <p:nvPr/>
        </p:nvSpPr>
        <p:spPr>
          <a:xfrm>
            <a:off x="5000760" y="2457360"/>
            <a:ext cx="71280" cy="2195640"/>
          </a:xfrm>
          <a:custGeom>
            <a:avLst/>
            <a:gdLst>
              <a:gd name="textAreaLeft" fmla="*/ 45720 w 71280"/>
              <a:gd name="textAreaRight" fmla="*/ 71640 w 71280"/>
              <a:gd name="textAreaTop" fmla="*/ 1800 h 2195640"/>
              <a:gd name="textAreaBottom" fmla="*/ 2193840 h 21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"/>
                  <a:pt x="10800" y="59"/>
                </a:cubicBezTo>
                <a:lnTo>
                  <a:pt x="10800" y="10741"/>
                </a:lnTo>
                <a:cubicBezTo>
                  <a:pt x="10800" y="10771"/>
                  <a:pt x="5400" y="10800"/>
                  <a:pt x="0" y="10800"/>
                </a:cubicBezTo>
                <a:cubicBezTo>
                  <a:pt x="5400" y="10800"/>
                  <a:pt x="10800" y="10830"/>
                  <a:pt x="10800" y="10859"/>
                </a:cubicBezTo>
                <a:lnTo>
                  <a:pt x="10800" y="21541"/>
                </a:lnTo>
                <a:cubicBezTo>
                  <a:pt x="10800" y="2157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10"/>
          <p:cNvSpPr/>
          <p:nvPr/>
        </p:nvSpPr>
        <p:spPr>
          <a:xfrm>
            <a:off x="0" y="692280"/>
            <a:ext cx="9001080" cy="4105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54"/>
          <p:cNvSpPr/>
          <p:nvPr/>
        </p:nvSpPr>
        <p:spPr>
          <a:xfrm>
            <a:off x="3357720" y="257184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DG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25 Grupo"/>
          <p:cNvGrpSpPr/>
          <p:nvPr/>
        </p:nvGrpSpPr>
        <p:grpSpPr>
          <a:xfrm>
            <a:off x="5072040" y="2565360"/>
            <a:ext cx="3808440" cy="2086920"/>
            <a:chOff x="5072040" y="2565360"/>
            <a:chExt cx="3808440" cy="2086920"/>
          </a:xfrm>
        </p:grpSpPr>
        <p:sp>
          <p:nvSpPr>
            <p:cNvPr id="652" name="39 Rectángulo"/>
            <p:cNvSpPr/>
            <p:nvPr/>
          </p:nvSpPr>
          <p:spPr>
            <a:xfrm>
              <a:off x="5082120" y="2909880"/>
              <a:ext cx="237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- A nivel Pliego Presupuestar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39 Rectángulo"/>
            <p:cNvSpPr/>
            <p:nvPr/>
          </p:nvSpPr>
          <p:spPr>
            <a:xfrm>
              <a:off x="5108040" y="3265200"/>
              <a:ext cx="3772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Por toda Fuente de Financiamiento y genérica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gast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39 Rectángulo"/>
            <p:cNvSpPr/>
            <p:nvPr/>
          </p:nvSpPr>
          <p:spPr>
            <a:xfrm>
              <a:off x="5076000" y="3789000"/>
              <a:ext cx="3429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Puede ser Incrementado Previa Evaluación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Trimestral   (DGAES – DGP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39 Rectángulo"/>
            <p:cNvSpPr/>
            <p:nvPr/>
          </p:nvSpPr>
          <p:spPr>
            <a:xfrm>
              <a:off x="5072040" y="2565360"/>
              <a:ext cx="343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Asignación Total a comprometer en el añ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39 Rectángulo"/>
            <p:cNvSpPr/>
            <p:nvPr/>
          </p:nvSpPr>
          <p:spPr>
            <a:xfrm>
              <a:off x="5095800" y="4345200"/>
              <a:ext cx="295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- Pliego puede modificar entre sus U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18 CuadroTexto"/>
          <p:cNvSpPr/>
          <p:nvPr/>
        </p:nvSpPr>
        <p:spPr>
          <a:xfrm>
            <a:off x="755640" y="38606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19 CuadroTexto"/>
          <p:cNvSpPr/>
          <p:nvPr/>
        </p:nvSpPr>
        <p:spPr>
          <a:xfrm>
            <a:off x="2918520" y="1979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20 CuadroTexto"/>
          <p:cNvSpPr/>
          <p:nvPr/>
        </p:nvSpPr>
        <p:spPr>
          <a:xfrm>
            <a:off x="3566160" y="3860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22 CuadroTexto"/>
          <p:cNvSpPr/>
          <p:nvPr/>
        </p:nvSpPr>
        <p:spPr>
          <a:xfrm>
            <a:off x="108000" y="522936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PASO  1: conocer el valor del presupuesto y estimar posibles modifi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PASO  2:  coordinar con DGAES los montos maximos de gasto sobre la base de las reglas fiscales del M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PASO   3:  determinar los limites de gasto a cada entidad para el año 2011 = P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23 Rectángulo"/>
          <p:cNvSpPr/>
          <p:nvPr/>
        </p:nvSpPr>
        <p:spPr>
          <a:xfrm>
            <a:off x="6082200" y="197964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000000"/>
                </a:solidFill>
                <a:uFillTx/>
                <a:latin typeface="Impact"/>
              </a:rPr>
              <a:t>P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24 CuadroTexto"/>
          <p:cNvSpPr/>
          <p:nvPr/>
        </p:nvSpPr>
        <p:spPr>
          <a:xfrm>
            <a:off x="-279360" y="4869000"/>
            <a:ext cx="485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 u="sng">
                <a:solidFill>
                  <a:srgbClr val="000000"/>
                </a:solidFill>
                <a:uFillTx/>
                <a:latin typeface="Impact"/>
              </a:rPr>
              <a:t>PASOS  A SEGUIR PARA DETERMIAR LA  P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70 CuadroTexto"/>
          <p:cNvSpPr/>
          <p:nvPr/>
        </p:nvSpPr>
        <p:spPr>
          <a:xfrm>
            <a:off x="1785960" y="142920"/>
            <a:ext cx="514332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Impact"/>
              </a:rPr>
              <a:t>PROCESO EJECUCION 2011 - P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4 CuadroTexto"/>
          <p:cNvSpPr/>
          <p:nvPr/>
        </p:nvSpPr>
        <p:spPr>
          <a:xfrm>
            <a:off x="4643280" y="2822400"/>
            <a:ext cx="1368720" cy="459000"/>
          </a:xfrm>
          <a:prstGeom prst="rect">
            <a:avLst/>
          </a:prstGeom>
          <a:solidFill>
            <a:srgbClr val="d6e0d5"/>
          </a:solidFill>
          <a:ln w="9360">
            <a:solidFill>
              <a:srgbClr val="8fb08c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Georgia"/>
              </a:rPr>
              <a:t>Compromi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Georgia"/>
              </a:rPr>
              <a:t>An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4 CuadroTexto"/>
          <p:cNvSpPr/>
          <p:nvPr/>
        </p:nvSpPr>
        <p:spPr>
          <a:xfrm>
            <a:off x="2928960" y="2766960"/>
            <a:ext cx="1428840" cy="520200"/>
          </a:xfrm>
          <a:prstGeom prst="rect">
            <a:avLst/>
          </a:prstGeom>
          <a:solidFill>
            <a:srgbClr val="ecccc8"/>
          </a:solidFill>
          <a:ln w="9360">
            <a:solidFill>
              <a:srgbClr val="d16349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Georgia"/>
              </a:rPr>
              <a:t>Certificación Presupues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10"/>
          <p:cNvSpPr/>
          <p:nvPr/>
        </p:nvSpPr>
        <p:spPr>
          <a:xfrm>
            <a:off x="142920" y="1071720"/>
            <a:ext cx="2571840" cy="5000400"/>
          </a:xfrm>
          <a:prstGeom prst="rect">
            <a:avLst/>
          </a:prstGeom>
          <a:noFill/>
          <a:ln w="9360">
            <a:solidFill>
              <a:srgbClr val="a0a5b8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51 Marcador de número de diapositiva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CC39-ED19-447C-87BC-2A0DE7FCA440}" type="slidenum">
              <a:rPr b="0" lang="es-ES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4 CuadroTexto"/>
          <p:cNvSpPr/>
          <p:nvPr/>
        </p:nvSpPr>
        <p:spPr>
          <a:xfrm>
            <a:off x="1357200" y="2643120"/>
            <a:ext cx="1428840" cy="824040"/>
          </a:xfrm>
          <a:prstGeom prst="rect">
            <a:avLst/>
          </a:prstGeom>
          <a:solidFill>
            <a:srgbClr val="d5dfdf"/>
          </a:solidFill>
          <a:ln w="12600">
            <a:solidFill>
              <a:srgbClr val="000000"/>
            </a:solidFill>
            <a:prstDash val="dashDot"/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Georgia"/>
              </a:rPr>
              <a:t>Programación de Compromisos Anual (PCA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31 Flecha derecha"/>
          <p:cNvSpPr/>
          <p:nvPr/>
        </p:nvSpPr>
        <p:spPr>
          <a:xfrm>
            <a:off x="4357800" y="3052800"/>
            <a:ext cx="360360" cy="46080"/>
          </a:xfrm>
          <a:prstGeom prst="rightArrow">
            <a:avLst>
              <a:gd name="adj1" fmla="val 50000"/>
              <a:gd name="adj2" fmla="val 49963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39 Rectángulo"/>
          <p:cNvSpPr/>
          <p:nvPr/>
        </p:nvSpPr>
        <p:spPr>
          <a:xfrm>
            <a:off x="2786040" y="1695600"/>
            <a:ext cx="2000160" cy="580680"/>
          </a:xfrm>
          <a:prstGeom prst="rect">
            <a:avLst/>
          </a:prstGeom>
          <a:solidFill>
            <a:srgbClr val="fff185"/>
          </a:solidFill>
          <a:ln w="93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Prioriza bien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servicios y proye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45 Flecha derecha"/>
          <p:cNvSpPr/>
          <p:nvPr/>
        </p:nvSpPr>
        <p:spPr>
          <a:xfrm flipV="1" rot="16200000">
            <a:off x="3409560" y="2496600"/>
            <a:ext cx="360360" cy="36360"/>
          </a:xfrm>
          <a:prstGeom prst="rightArrow">
            <a:avLst>
              <a:gd name="adj1" fmla="val 50000"/>
              <a:gd name="adj2" fmla="val 50197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0"/>
          <p:cNvSpPr/>
          <p:nvPr/>
        </p:nvSpPr>
        <p:spPr>
          <a:xfrm>
            <a:off x="142920" y="642960"/>
            <a:ext cx="8858160" cy="5715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54"/>
          <p:cNvSpPr/>
          <p:nvPr/>
        </p:nvSpPr>
        <p:spPr>
          <a:xfrm>
            <a:off x="1143000" y="116208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DG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4 CuadroTexto"/>
          <p:cNvSpPr/>
          <p:nvPr/>
        </p:nvSpPr>
        <p:spPr>
          <a:xfrm>
            <a:off x="142920" y="2690640"/>
            <a:ext cx="1071360" cy="733320"/>
          </a:xfrm>
          <a:prstGeom prst="rect">
            <a:avLst/>
          </a:prstGeom>
          <a:solidFill>
            <a:srgbClr val="ecd6c8"/>
          </a:solidFill>
          <a:ln w="9360">
            <a:solidFill>
              <a:srgbClr val="d19049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eorgia"/>
              </a:rPr>
              <a:t>Mar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eorgia"/>
              </a:rPr>
              <a:t>Presu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Georgia"/>
              </a:rPr>
              <a:t>PIA - P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54"/>
          <p:cNvSpPr/>
          <p:nvPr/>
        </p:nvSpPr>
        <p:spPr>
          <a:xfrm>
            <a:off x="3714840" y="114300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Pli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43" descr=""/>
          <p:cNvPicPr/>
          <p:nvPr/>
        </p:nvPicPr>
        <p:blipFill>
          <a:blip r:embed="rId1"/>
          <a:stretch/>
        </p:blipFill>
        <p:spPr>
          <a:xfrm>
            <a:off x="4859280" y="1773360"/>
            <a:ext cx="857160" cy="276120"/>
          </a:xfrm>
          <a:prstGeom prst="rect">
            <a:avLst/>
          </a:prstGeom>
          <a:ln w="0">
            <a:noFill/>
          </a:ln>
        </p:spPr>
      </p:pic>
      <p:sp>
        <p:nvSpPr>
          <p:cNvPr id="677" name="Rectangle 10"/>
          <p:cNvSpPr/>
          <p:nvPr/>
        </p:nvSpPr>
        <p:spPr>
          <a:xfrm>
            <a:off x="2786040" y="1071720"/>
            <a:ext cx="3286080" cy="5000400"/>
          </a:xfrm>
          <a:prstGeom prst="rect">
            <a:avLst/>
          </a:prstGeom>
          <a:noFill/>
          <a:ln w="9360">
            <a:solidFill>
              <a:srgbClr val="ccb4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4 CuadroTexto"/>
          <p:cNvSpPr/>
          <p:nvPr/>
        </p:nvSpPr>
        <p:spPr>
          <a:xfrm>
            <a:off x="6143760" y="2909880"/>
            <a:ext cx="1143000" cy="276480"/>
          </a:xfrm>
          <a:prstGeom prst="rect">
            <a:avLst/>
          </a:prstGeom>
          <a:solidFill>
            <a:srgbClr val="c4c4c4"/>
          </a:soli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Georgia"/>
              </a:rPr>
              <a:t>Deveng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4 CuadroTexto"/>
          <p:cNvSpPr/>
          <p:nvPr/>
        </p:nvSpPr>
        <p:spPr>
          <a:xfrm>
            <a:off x="8286840" y="2909880"/>
            <a:ext cx="642960" cy="276480"/>
          </a:xfrm>
          <a:prstGeom prst="rect">
            <a:avLst/>
          </a:prstGeom>
          <a:solidFill>
            <a:srgbClr val="eae1c4"/>
          </a:solidFill>
          <a:ln w="9360">
            <a:solidFill>
              <a:srgbClr val="ccb400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Georgia"/>
              </a:rPr>
              <a:t>P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4 CuadroTexto"/>
          <p:cNvSpPr/>
          <p:nvPr/>
        </p:nvSpPr>
        <p:spPr>
          <a:xfrm>
            <a:off x="7500960" y="2909880"/>
            <a:ext cx="571320" cy="276480"/>
          </a:xfrm>
          <a:prstGeom prst="rect">
            <a:avLst/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Georgia"/>
              </a:rPr>
              <a:t>Gi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12"/>
          <p:cNvSpPr/>
          <p:nvPr/>
        </p:nvSpPr>
        <p:spPr>
          <a:xfrm>
            <a:off x="8143920" y="2500200"/>
            <a:ext cx="100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PLI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54"/>
          <p:cNvSpPr/>
          <p:nvPr/>
        </p:nvSpPr>
        <p:spPr>
          <a:xfrm>
            <a:off x="7429680" y="250020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DN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54"/>
          <p:cNvSpPr/>
          <p:nvPr/>
        </p:nvSpPr>
        <p:spPr>
          <a:xfrm>
            <a:off x="6316560" y="248112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PLI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74 Flecha derecha"/>
          <p:cNvSpPr/>
          <p:nvPr/>
        </p:nvSpPr>
        <p:spPr>
          <a:xfrm>
            <a:off x="7321680" y="3078000"/>
            <a:ext cx="179280" cy="46080"/>
          </a:xfrm>
          <a:prstGeom prst="rightArrow">
            <a:avLst>
              <a:gd name="adj1" fmla="val 50000"/>
              <a:gd name="adj2" fmla="val 4993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75 Flecha derecha"/>
          <p:cNvSpPr/>
          <p:nvPr/>
        </p:nvSpPr>
        <p:spPr>
          <a:xfrm>
            <a:off x="8070840" y="3052800"/>
            <a:ext cx="216000" cy="4608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10"/>
          <p:cNvSpPr/>
          <p:nvPr/>
        </p:nvSpPr>
        <p:spPr>
          <a:xfrm>
            <a:off x="6143760" y="1071720"/>
            <a:ext cx="2867040" cy="5000400"/>
          </a:xfrm>
          <a:prstGeom prst="rect">
            <a:avLst/>
          </a:prstGeom>
          <a:noFill/>
          <a:ln w="9360">
            <a:solidFill>
              <a:srgbClr val="646b8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54"/>
          <p:cNvSpPr/>
          <p:nvPr/>
        </p:nvSpPr>
        <p:spPr>
          <a:xfrm>
            <a:off x="6215040" y="714240"/>
            <a:ext cx="26431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NORMADO -  DN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78 Flecha derecha"/>
          <p:cNvSpPr/>
          <p:nvPr/>
        </p:nvSpPr>
        <p:spPr>
          <a:xfrm>
            <a:off x="6035760" y="3052800"/>
            <a:ext cx="179280" cy="46080"/>
          </a:xfrm>
          <a:prstGeom prst="rightArrow">
            <a:avLst>
              <a:gd name="adj1" fmla="val 50000"/>
              <a:gd name="adj2" fmla="val 4993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4 CuadroTexto"/>
          <p:cNvSpPr/>
          <p:nvPr/>
        </p:nvSpPr>
        <p:spPr>
          <a:xfrm>
            <a:off x="285840" y="4691160"/>
            <a:ext cx="2357280" cy="76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Georgia"/>
              </a:rPr>
              <a:t>La DGPP asigna la PCA a Nivel de pliego, fuente  de financiamiento  y genérica del gasto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4 CuadroTexto"/>
          <p:cNvSpPr/>
          <p:nvPr/>
        </p:nvSpPr>
        <p:spPr>
          <a:xfrm>
            <a:off x="2857680" y="4038480"/>
            <a:ext cx="314316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Georgia"/>
              </a:rPr>
              <a:t>El Pliego prioriza los bienes, servicios y proyectos  que ejecutará en base a la P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4 CuadroTexto"/>
          <p:cNvSpPr/>
          <p:nvPr/>
        </p:nvSpPr>
        <p:spPr>
          <a:xfrm>
            <a:off x="2857680" y="4643280"/>
            <a:ext cx="314316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Georgia"/>
              </a:rPr>
              <a:t>La Certificación Presupuestal  se realiza teniendo en cuenta el PIM de cada bien, servicio o proyecto priorizado en la P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4 CuadroTexto"/>
          <p:cNvSpPr/>
          <p:nvPr/>
        </p:nvSpPr>
        <p:spPr>
          <a:xfrm>
            <a:off x="2857680" y="5456160"/>
            <a:ext cx="314316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Georgia"/>
              </a:rPr>
              <a:t>El compromiso se realiza en base al PIM de cada bien o servicio priorizado en la P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4 CuadroTexto"/>
          <p:cNvSpPr/>
          <p:nvPr/>
        </p:nvSpPr>
        <p:spPr>
          <a:xfrm>
            <a:off x="285840" y="5313240"/>
            <a:ext cx="23572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Georgia"/>
              </a:rPr>
              <a:t>El Pliego distribuye la PCA en cada una de sus 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4 CuadroTexto"/>
          <p:cNvSpPr/>
          <p:nvPr/>
        </p:nvSpPr>
        <p:spPr>
          <a:xfrm>
            <a:off x="6215040" y="4214880"/>
            <a:ext cx="2714760" cy="76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Georgia"/>
              </a:rPr>
              <a:t>El Pliego realizada la conformidad de la compra del bien, del servicios prestado o proyecto ejecutado, efectúa el deven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4 CuadroTexto"/>
          <p:cNvSpPr/>
          <p:nvPr/>
        </p:nvSpPr>
        <p:spPr>
          <a:xfrm>
            <a:off x="6215040" y="5000760"/>
            <a:ext cx="27147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Georgia"/>
              </a:rPr>
              <a:t>La  DNTP  autoriza el gi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54"/>
          <p:cNvSpPr/>
          <p:nvPr/>
        </p:nvSpPr>
        <p:spPr>
          <a:xfrm>
            <a:off x="214200" y="714240"/>
            <a:ext cx="57866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NORMADO -  DG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4 CuadroTexto"/>
          <p:cNvSpPr/>
          <p:nvPr/>
        </p:nvSpPr>
        <p:spPr>
          <a:xfrm>
            <a:off x="6215040" y="5510160"/>
            <a:ext cx="27147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Georgia"/>
              </a:rPr>
              <a:t>El Pliego efectúa el p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39 Flecha derecha"/>
          <p:cNvSpPr/>
          <p:nvPr/>
        </p:nvSpPr>
        <p:spPr>
          <a:xfrm>
            <a:off x="1214280" y="3025800"/>
            <a:ext cx="142920" cy="4608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42 Flecha derecha"/>
          <p:cNvSpPr/>
          <p:nvPr/>
        </p:nvSpPr>
        <p:spPr>
          <a:xfrm>
            <a:off x="2786040" y="3025800"/>
            <a:ext cx="142920" cy="4608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70 CuadroTexto"/>
          <p:cNvSpPr/>
          <p:nvPr/>
        </p:nvSpPr>
        <p:spPr>
          <a:xfrm>
            <a:off x="285840" y="333360"/>
            <a:ext cx="84294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PROCESO DE EJECUCIÓN  2011 - Ejemp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2 Marcador de contenido"/>
          <p:cNvSpPr/>
          <p:nvPr/>
        </p:nvSpPr>
        <p:spPr>
          <a:xfrm>
            <a:off x="214200" y="857160"/>
            <a:ext cx="8572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000000"/>
                </a:solidFill>
                <a:latin typeface="Georgia"/>
              </a:rPr>
              <a:t>Personal y Obligaciones Sociales - Pensiones y Otras Prestaciones Social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3"/>
          <p:cNvSpPr/>
          <p:nvPr/>
        </p:nvSpPr>
        <p:spPr>
          <a:xfrm>
            <a:off x="142920" y="2101680"/>
            <a:ext cx="857160" cy="642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Mar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Presupues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PIA – PI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S/. 14 500 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3" name="AutoShape 5"/>
          <p:cNvGrpSpPr/>
          <p:nvPr/>
        </p:nvGrpSpPr>
        <p:grpSpPr>
          <a:xfrm>
            <a:off x="3718080" y="1590840"/>
            <a:ext cx="1062000" cy="579240"/>
            <a:chOff x="3718080" y="1590840"/>
            <a:chExt cx="1062000" cy="579240"/>
          </a:xfrm>
        </p:grpSpPr>
        <p:pic>
          <p:nvPicPr>
            <p:cNvPr id="704" name="AutoShape 5" descr=""/>
            <p:cNvPicPr/>
            <p:nvPr/>
          </p:nvPicPr>
          <p:blipFill>
            <a:blip r:embed="rId1"/>
            <a:stretch/>
          </p:blipFill>
          <p:spPr>
            <a:xfrm>
              <a:off x="3718080" y="1590840"/>
              <a:ext cx="106200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"/>
            <p:cNvSpPr/>
            <p:nvPr/>
          </p:nvSpPr>
          <p:spPr>
            <a:xfrm>
              <a:off x="3878280" y="1660680"/>
              <a:ext cx="7444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Georgia"/>
                </a:rPr>
                <a:t>Compromis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Georgia"/>
                </a:rPr>
                <a:t>Anu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6" name="AutoShape 6"/>
          <p:cNvSpPr/>
          <p:nvPr/>
        </p:nvSpPr>
        <p:spPr>
          <a:xfrm>
            <a:off x="4857840" y="1639800"/>
            <a:ext cx="1008000" cy="432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Georgia"/>
              </a:rPr>
              <a:t>Deveng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utoShape 7"/>
          <p:cNvSpPr/>
          <p:nvPr/>
        </p:nvSpPr>
        <p:spPr>
          <a:xfrm>
            <a:off x="7813800" y="1639800"/>
            <a:ext cx="1008000" cy="432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Pa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8"/>
          <p:cNvSpPr/>
          <p:nvPr/>
        </p:nvSpPr>
        <p:spPr>
          <a:xfrm>
            <a:off x="142920" y="1285920"/>
            <a:ext cx="1857240" cy="3071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9"/>
          <p:cNvSpPr/>
          <p:nvPr/>
        </p:nvSpPr>
        <p:spPr>
          <a:xfrm>
            <a:off x="285840" y="1428840"/>
            <a:ext cx="79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00"/>
                </a:solidFill>
                <a:latin typeface="Calibri"/>
              </a:rPr>
              <a:t>DG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10"/>
          <p:cNvSpPr/>
          <p:nvPr/>
        </p:nvSpPr>
        <p:spPr>
          <a:xfrm>
            <a:off x="2071800" y="1285920"/>
            <a:ext cx="4286160" cy="5143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13"/>
          <p:cNvSpPr/>
          <p:nvPr/>
        </p:nvSpPr>
        <p:spPr>
          <a:xfrm>
            <a:off x="7742160" y="1285920"/>
            <a:ext cx="1150920" cy="5143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20"/>
          <p:cNvSpPr/>
          <p:nvPr/>
        </p:nvSpPr>
        <p:spPr>
          <a:xfrm>
            <a:off x="2071800" y="2214720"/>
            <a:ext cx="6715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12 000 000   Contin    8 000 000          8 000 000                700 000                                                   700 000                         700 000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CAFAE     2 000 000         2 000 000               180 000                                                    180 000                         180 000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IPSS        1 000 000          1 000 000                  80 000                                                       80 000                           80 00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Otr. Con 1 000 000         1 000 000                   80 000                                                       80 000                           80 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AutoShape 28"/>
          <p:cNvSpPr/>
          <p:nvPr/>
        </p:nvSpPr>
        <p:spPr>
          <a:xfrm rot="16200000">
            <a:off x="3533040" y="2912040"/>
            <a:ext cx="72720" cy="576360"/>
          </a:xfrm>
          <a:custGeom>
            <a:avLst/>
            <a:gdLst>
              <a:gd name="textAreaLeft" fmla="*/ 46440 w 72720"/>
              <a:gd name="textAreaRight" fmla="*/ 73080 w 72720"/>
              <a:gd name="textAreaTop" fmla="*/ 7200 h 576360"/>
              <a:gd name="textAreaBottom" fmla="*/ 56916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2"/>
                  <a:pt x="10800" y="903"/>
                </a:cubicBezTo>
                <a:lnTo>
                  <a:pt x="10800" y="9897"/>
                </a:lnTo>
                <a:cubicBezTo>
                  <a:pt x="10800" y="10349"/>
                  <a:pt x="5400" y="10800"/>
                  <a:pt x="0" y="10800"/>
                </a:cubicBezTo>
                <a:cubicBezTo>
                  <a:pt x="5400" y="10800"/>
                  <a:pt x="10800" y="11252"/>
                  <a:pt x="10800" y="11703"/>
                </a:cubicBezTo>
                <a:lnTo>
                  <a:pt x="10800" y="20697"/>
                </a:lnTo>
                <a:cubicBezTo>
                  <a:pt x="10800" y="2114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29"/>
          <p:cNvSpPr/>
          <p:nvPr/>
        </p:nvSpPr>
        <p:spPr>
          <a:xfrm rot="16200000">
            <a:off x="2453400" y="2851920"/>
            <a:ext cx="46080" cy="666720"/>
          </a:xfrm>
          <a:custGeom>
            <a:avLst/>
            <a:gdLst>
              <a:gd name="textAreaLeft" fmla="*/ 29520 w 46080"/>
              <a:gd name="textAreaRight" fmla="*/ 46440 w 46080"/>
              <a:gd name="textAreaTop" fmla="*/ 4680 h 666720"/>
              <a:gd name="textAreaBottom" fmla="*/ 662040 h 66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4"/>
                  <a:pt x="10800" y="488"/>
                </a:cubicBezTo>
                <a:lnTo>
                  <a:pt x="10800" y="10312"/>
                </a:lnTo>
                <a:cubicBezTo>
                  <a:pt x="10800" y="10556"/>
                  <a:pt x="5400" y="10800"/>
                  <a:pt x="0" y="10800"/>
                </a:cubicBezTo>
                <a:cubicBezTo>
                  <a:pt x="5400" y="10800"/>
                  <a:pt x="10800" y="11044"/>
                  <a:pt x="10800" y="11288"/>
                </a:cubicBezTo>
                <a:lnTo>
                  <a:pt x="10800" y="21112"/>
                </a:lnTo>
                <a:cubicBezTo>
                  <a:pt x="10800" y="2135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30"/>
          <p:cNvSpPr/>
          <p:nvPr/>
        </p:nvSpPr>
        <p:spPr>
          <a:xfrm rot="16200000">
            <a:off x="5234040" y="2930400"/>
            <a:ext cx="72720" cy="539640"/>
          </a:xfrm>
          <a:custGeom>
            <a:avLst/>
            <a:gdLst>
              <a:gd name="textAreaLeft" fmla="*/ 46440 w 72720"/>
              <a:gd name="textAreaRight" fmla="*/ 73080 w 72720"/>
              <a:gd name="textAreaTop" fmla="*/ 7200 h 539640"/>
              <a:gd name="textAreaBottom" fmla="*/ 53244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82"/>
                  <a:pt x="10800" y="963"/>
                </a:cubicBezTo>
                <a:lnTo>
                  <a:pt x="10800" y="9837"/>
                </a:lnTo>
                <a:cubicBezTo>
                  <a:pt x="10800" y="10319"/>
                  <a:pt x="5400" y="10800"/>
                  <a:pt x="0" y="10800"/>
                </a:cubicBezTo>
                <a:cubicBezTo>
                  <a:pt x="5400" y="10800"/>
                  <a:pt x="10800" y="11282"/>
                  <a:pt x="10800" y="11763"/>
                </a:cubicBezTo>
                <a:lnTo>
                  <a:pt x="10800" y="20637"/>
                </a:lnTo>
                <a:cubicBezTo>
                  <a:pt x="10800" y="2111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52"/>
          <p:cNvSpPr/>
          <p:nvPr/>
        </p:nvSpPr>
        <p:spPr>
          <a:xfrm>
            <a:off x="4143240" y="4071960"/>
            <a:ext cx="1428840" cy="714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Georgia"/>
              </a:rPr>
              <a:t>La oficina de per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s-PE" sz="1000" spc="-1" strike="noStrike">
                <a:solidFill>
                  <a:srgbClr val="000000"/>
                </a:solidFill>
                <a:latin typeface="Georgia"/>
              </a:rPr>
              <a:t>compromete el tot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Georgia"/>
              </a:rPr>
              <a:t>de planilla  continua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Georgia"/>
              </a:rPr>
              <a:t>nombrados y contra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54"/>
          <p:cNvSpPr/>
          <p:nvPr/>
        </p:nvSpPr>
        <p:spPr>
          <a:xfrm>
            <a:off x="3786120" y="1285920"/>
            <a:ext cx="135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b400"/>
                </a:solidFill>
                <a:latin typeface="Calibri"/>
              </a:rPr>
              <a:t>PLIEGO  -  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AutoShape 28"/>
          <p:cNvSpPr/>
          <p:nvPr/>
        </p:nvSpPr>
        <p:spPr>
          <a:xfrm rot="16200000">
            <a:off x="4270320" y="2872800"/>
            <a:ext cx="73080" cy="612720"/>
          </a:xfrm>
          <a:custGeom>
            <a:avLst/>
            <a:gdLst>
              <a:gd name="textAreaLeft" fmla="*/ 46800 w 73080"/>
              <a:gd name="textAreaRight" fmla="*/ 73440 w 73080"/>
              <a:gd name="textAreaTop" fmla="*/ 7200 h 612720"/>
              <a:gd name="textAreaBottom" fmla="*/ 605520 h 6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25"/>
                  <a:pt x="10800" y="850"/>
                </a:cubicBezTo>
                <a:lnTo>
                  <a:pt x="10800" y="9950"/>
                </a:lnTo>
                <a:cubicBezTo>
                  <a:pt x="10800" y="10375"/>
                  <a:pt x="5400" y="10800"/>
                  <a:pt x="0" y="10800"/>
                </a:cubicBezTo>
                <a:cubicBezTo>
                  <a:pt x="5400" y="10800"/>
                  <a:pt x="10800" y="11225"/>
                  <a:pt x="10800" y="11650"/>
                </a:cubicBezTo>
                <a:lnTo>
                  <a:pt x="10800" y="20750"/>
                </a:lnTo>
                <a:cubicBezTo>
                  <a:pt x="10800" y="2117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49"/>
          <p:cNvSpPr/>
          <p:nvPr/>
        </p:nvSpPr>
        <p:spPr>
          <a:xfrm>
            <a:off x="6072120" y="17859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0" name="AutoShape 5"/>
          <p:cNvGrpSpPr/>
          <p:nvPr/>
        </p:nvGrpSpPr>
        <p:grpSpPr>
          <a:xfrm>
            <a:off x="6711840" y="1523880"/>
            <a:ext cx="927360" cy="579600"/>
            <a:chOff x="6711840" y="1523880"/>
            <a:chExt cx="927360" cy="579600"/>
          </a:xfrm>
        </p:grpSpPr>
        <p:pic>
          <p:nvPicPr>
            <p:cNvPr id="721" name="AutoShape 5" descr=""/>
            <p:cNvPicPr/>
            <p:nvPr/>
          </p:nvPicPr>
          <p:blipFill>
            <a:blip r:embed="rId2"/>
            <a:stretch/>
          </p:blipFill>
          <p:spPr>
            <a:xfrm>
              <a:off x="6711840" y="1523880"/>
              <a:ext cx="92736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2" name=""/>
            <p:cNvSpPr/>
            <p:nvPr/>
          </p:nvSpPr>
          <p:spPr>
            <a:xfrm>
              <a:off x="6807240" y="1592280"/>
              <a:ext cx="7444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Georgia"/>
                </a:rPr>
                <a:t>Gir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3" name="Line 49"/>
          <p:cNvSpPr/>
          <p:nvPr/>
        </p:nvSpPr>
        <p:spPr>
          <a:xfrm>
            <a:off x="7570800" y="17859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54"/>
          <p:cNvSpPr/>
          <p:nvPr/>
        </p:nvSpPr>
        <p:spPr>
          <a:xfrm>
            <a:off x="6786720" y="1285920"/>
            <a:ext cx="7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ccb400"/>
                </a:solidFill>
                <a:latin typeface="Calibri"/>
              </a:rPr>
              <a:t>DN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AutoShape 51"/>
          <p:cNvGrpSpPr/>
          <p:nvPr/>
        </p:nvGrpSpPr>
        <p:grpSpPr>
          <a:xfrm>
            <a:off x="938160" y="2000160"/>
            <a:ext cx="1219320" cy="968400"/>
            <a:chOff x="938160" y="2000160"/>
            <a:chExt cx="1219320" cy="968400"/>
          </a:xfrm>
        </p:grpSpPr>
        <p:pic>
          <p:nvPicPr>
            <p:cNvPr id="726" name="AutoShape 51" descr=""/>
            <p:cNvPicPr/>
            <p:nvPr/>
          </p:nvPicPr>
          <p:blipFill>
            <a:blip r:embed="rId3"/>
            <a:stretch/>
          </p:blipFill>
          <p:spPr>
            <a:xfrm>
              <a:off x="938160" y="2000160"/>
              <a:ext cx="121932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"/>
            <p:cNvSpPr/>
            <p:nvPr/>
          </p:nvSpPr>
          <p:spPr>
            <a:xfrm>
              <a:off x="1136520" y="2138400"/>
              <a:ext cx="82728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Georgia"/>
                </a:rPr>
                <a:t>P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Georgia"/>
                </a:rPr>
                <a:t>Personal y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Georgia"/>
                </a:rPr>
                <a:t>Y   Obligacion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Georgia"/>
                </a:rPr>
                <a:t>Sociale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Georgia"/>
                </a:rPr>
                <a:t>S/. 14 000 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8" name="Line 16"/>
          <p:cNvSpPr/>
          <p:nvPr/>
        </p:nvSpPr>
        <p:spPr>
          <a:xfrm>
            <a:off x="2000160" y="24289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AutoShape 5"/>
          <p:cNvGrpSpPr/>
          <p:nvPr/>
        </p:nvGrpSpPr>
        <p:grpSpPr>
          <a:xfrm>
            <a:off x="4638600" y="3382920"/>
            <a:ext cx="1360440" cy="712800"/>
            <a:chOff x="4638600" y="3382920"/>
            <a:chExt cx="1360440" cy="712800"/>
          </a:xfrm>
        </p:grpSpPr>
        <p:pic>
          <p:nvPicPr>
            <p:cNvPr id="730" name="AutoShape 5" descr=""/>
            <p:cNvPicPr/>
            <p:nvPr/>
          </p:nvPicPr>
          <p:blipFill>
            <a:blip r:embed="rId4"/>
            <a:stretch/>
          </p:blipFill>
          <p:spPr>
            <a:xfrm>
              <a:off x="4638600" y="3382920"/>
              <a:ext cx="136044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"/>
            <p:cNvSpPr/>
            <p:nvPr/>
          </p:nvSpPr>
          <p:spPr>
            <a:xfrm>
              <a:off x="4815000" y="3457440"/>
              <a:ext cx="10144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Georgia"/>
                </a:rPr>
                <a:t>Oficina  Financier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Georgia"/>
                </a:rPr>
                <a:t>devenga c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Georgia"/>
                </a:rPr>
                <a:t>Planilla mensu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55 Marcador de número de diapositiva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0EF3-9A1B-4400-9D36-B12895EEF8DD}" type="slidenum">
              <a:rPr b="0" lang="es-ES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54"/>
          <p:cNvSpPr/>
          <p:nvPr/>
        </p:nvSpPr>
        <p:spPr>
          <a:xfrm>
            <a:off x="7786800" y="12859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b400"/>
                </a:solidFill>
                <a:latin typeface="Calibri"/>
              </a:rPr>
              <a:t>PLIEGO- 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13"/>
          <p:cNvSpPr/>
          <p:nvPr/>
        </p:nvSpPr>
        <p:spPr>
          <a:xfrm>
            <a:off x="6500880" y="1285920"/>
            <a:ext cx="1150920" cy="5143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AutoShape 51"/>
          <p:cNvGrpSpPr/>
          <p:nvPr/>
        </p:nvGrpSpPr>
        <p:grpSpPr>
          <a:xfrm>
            <a:off x="2382840" y="3359160"/>
            <a:ext cx="1884240" cy="950760"/>
            <a:chOff x="2382840" y="3359160"/>
            <a:chExt cx="1884240" cy="950760"/>
          </a:xfrm>
        </p:grpSpPr>
        <p:pic>
          <p:nvPicPr>
            <p:cNvPr id="736" name="AutoShape 51" descr=""/>
            <p:cNvPicPr/>
            <p:nvPr/>
          </p:nvPicPr>
          <p:blipFill>
            <a:blip r:embed="rId5"/>
            <a:stretch/>
          </p:blipFill>
          <p:spPr>
            <a:xfrm>
              <a:off x="2382840" y="3359160"/>
              <a:ext cx="18842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"/>
            <p:cNvSpPr/>
            <p:nvPr/>
          </p:nvSpPr>
          <p:spPr>
            <a:xfrm>
              <a:off x="2538360" y="3467160"/>
              <a:ext cx="15670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Georgia"/>
                </a:rPr>
                <a:t>Responsable de Presupues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s-ES" sz="1000" spc="-1" strike="noStrike">
                  <a:solidFill>
                    <a:srgbClr val="000000"/>
                  </a:solidFill>
                  <a:latin typeface="Georgia"/>
                </a:rPr>
                <a:t>de la UE certifica el  tota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Georgia"/>
                </a:rPr>
                <a:t>de  la planilla  continua </a:t>
              </a:r>
              <a:r>
                <a:rPr b="0" lang="es-MX" sz="1000" spc="-1" strike="noStrike">
                  <a:solidFill>
                    <a:srgbClr val="000000"/>
                  </a:solidFill>
                  <a:latin typeface="Georgia"/>
                </a:rPr>
                <a:t>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Georgia"/>
                </a:rPr>
                <a:t>nombrados y contratad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AutoShape 4"/>
          <p:cNvSpPr/>
          <p:nvPr/>
        </p:nvSpPr>
        <p:spPr>
          <a:xfrm>
            <a:off x="2643120" y="1496880"/>
            <a:ext cx="720720" cy="503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Priori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utoShape 28"/>
          <p:cNvSpPr/>
          <p:nvPr/>
        </p:nvSpPr>
        <p:spPr>
          <a:xfrm rot="16200000">
            <a:off x="3466080" y="5745600"/>
            <a:ext cx="73080" cy="576000"/>
          </a:xfrm>
          <a:custGeom>
            <a:avLst/>
            <a:gdLst>
              <a:gd name="textAreaLeft" fmla="*/ 46800 w 73080"/>
              <a:gd name="textAreaRight" fmla="*/ 73440 w 73080"/>
              <a:gd name="textAreaTop" fmla="*/ 7200 h 576000"/>
              <a:gd name="textAreaBottom" fmla="*/ 56880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2"/>
                  <a:pt x="10800" y="903"/>
                </a:cubicBezTo>
                <a:lnTo>
                  <a:pt x="10800" y="9897"/>
                </a:lnTo>
                <a:cubicBezTo>
                  <a:pt x="10800" y="10349"/>
                  <a:pt x="5400" y="10800"/>
                  <a:pt x="0" y="10800"/>
                </a:cubicBezTo>
                <a:cubicBezTo>
                  <a:pt x="5400" y="10800"/>
                  <a:pt x="10800" y="11252"/>
                  <a:pt x="10800" y="11703"/>
                </a:cubicBezTo>
                <a:lnTo>
                  <a:pt x="10800" y="20697"/>
                </a:lnTo>
                <a:cubicBezTo>
                  <a:pt x="10800" y="2114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68 Rectángulo"/>
          <p:cNvSpPr/>
          <p:nvPr/>
        </p:nvSpPr>
        <p:spPr>
          <a:xfrm>
            <a:off x="3133800" y="5753160"/>
            <a:ext cx="71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2 000 00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utoShape 30"/>
          <p:cNvSpPr/>
          <p:nvPr/>
        </p:nvSpPr>
        <p:spPr>
          <a:xfrm rot="16200000">
            <a:off x="7194600" y="2928600"/>
            <a:ext cx="73080" cy="539640"/>
          </a:xfrm>
          <a:custGeom>
            <a:avLst/>
            <a:gdLst>
              <a:gd name="textAreaLeft" fmla="*/ 46800 w 73080"/>
              <a:gd name="textAreaRight" fmla="*/ 73440 w 73080"/>
              <a:gd name="textAreaTop" fmla="*/ 7200 h 539640"/>
              <a:gd name="textAreaBottom" fmla="*/ 53244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82"/>
                  <a:pt x="10800" y="963"/>
                </a:cubicBezTo>
                <a:lnTo>
                  <a:pt x="10800" y="9837"/>
                </a:lnTo>
                <a:cubicBezTo>
                  <a:pt x="10800" y="10319"/>
                  <a:pt x="5400" y="10800"/>
                  <a:pt x="0" y="10800"/>
                </a:cubicBezTo>
                <a:cubicBezTo>
                  <a:pt x="5400" y="10800"/>
                  <a:pt x="10800" y="11282"/>
                  <a:pt x="10800" y="11763"/>
                </a:cubicBezTo>
                <a:lnTo>
                  <a:pt x="10800" y="20637"/>
                </a:lnTo>
                <a:cubicBezTo>
                  <a:pt x="10800" y="2111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30"/>
          <p:cNvSpPr/>
          <p:nvPr/>
        </p:nvSpPr>
        <p:spPr>
          <a:xfrm rot="16200000">
            <a:off x="8337600" y="2928600"/>
            <a:ext cx="73080" cy="539640"/>
          </a:xfrm>
          <a:custGeom>
            <a:avLst/>
            <a:gdLst>
              <a:gd name="textAreaLeft" fmla="*/ 46800 w 73080"/>
              <a:gd name="textAreaRight" fmla="*/ 73440 w 73080"/>
              <a:gd name="textAreaTop" fmla="*/ 7200 h 539640"/>
              <a:gd name="textAreaBottom" fmla="*/ 53244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82"/>
                  <a:pt x="10800" y="963"/>
                </a:cubicBezTo>
                <a:lnTo>
                  <a:pt x="10800" y="9837"/>
                </a:lnTo>
                <a:cubicBezTo>
                  <a:pt x="10800" y="10319"/>
                  <a:pt x="5400" y="10800"/>
                  <a:pt x="0" y="10800"/>
                </a:cubicBezTo>
                <a:cubicBezTo>
                  <a:pt x="5400" y="10800"/>
                  <a:pt x="10800" y="11282"/>
                  <a:pt x="10800" y="11763"/>
                </a:cubicBezTo>
                <a:lnTo>
                  <a:pt x="10800" y="20637"/>
                </a:lnTo>
                <a:cubicBezTo>
                  <a:pt x="10800" y="2111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utoShape 28"/>
          <p:cNvSpPr/>
          <p:nvPr/>
        </p:nvSpPr>
        <p:spPr>
          <a:xfrm rot="16200000">
            <a:off x="4334760" y="5747040"/>
            <a:ext cx="73080" cy="576360"/>
          </a:xfrm>
          <a:custGeom>
            <a:avLst/>
            <a:gdLst>
              <a:gd name="textAreaLeft" fmla="*/ 46800 w 73080"/>
              <a:gd name="textAreaRight" fmla="*/ 73440 w 73080"/>
              <a:gd name="textAreaTop" fmla="*/ 7200 h 576360"/>
              <a:gd name="textAreaBottom" fmla="*/ 56916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2"/>
                  <a:pt x="10800" y="903"/>
                </a:cubicBezTo>
                <a:lnTo>
                  <a:pt x="10800" y="9897"/>
                </a:lnTo>
                <a:cubicBezTo>
                  <a:pt x="10800" y="10349"/>
                  <a:pt x="5400" y="10800"/>
                  <a:pt x="0" y="10800"/>
                </a:cubicBezTo>
                <a:cubicBezTo>
                  <a:pt x="5400" y="10800"/>
                  <a:pt x="10800" y="11252"/>
                  <a:pt x="10800" y="11703"/>
                </a:cubicBezTo>
                <a:lnTo>
                  <a:pt x="10800" y="20697"/>
                </a:lnTo>
                <a:cubicBezTo>
                  <a:pt x="10800" y="2114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77 Rectángulo"/>
          <p:cNvSpPr/>
          <p:nvPr/>
        </p:nvSpPr>
        <p:spPr>
          <a:xfrm>
            <a:off x="4078800" y="5753160"/>
            <a:ext cx="62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500 00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49"/>
          <p:cNvSpPr/>
          <p:nvPr/>
        </p:nvSpPr>
        <p:spPr>
          <a:xfrm>
            <a:off x="3465360" y="560556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49"/>
          <p:cNvSpPr/>
          <p:nvPr/>
        </p:nvSpPr>
        <p:spPr>
          <a:xfrm>
            <a:off x="3786120" y="59277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AutoShape 28"/>
          <p:cNvSpPr/>
          <p:nvPr/>
        </p:nvSpPr>
        <p:spPr>
          <a:xfrm rot="16200000">
            <a:off x="5549040" y="5745600"/>
            <a:ext cx="73080" cy="576360"/>
          </a:xfrm>
          <a:custGeom>
            <a:avLst/>
            <a:gdLst>
              <a:gd name="textAreaLeft" fmla="*/ 46800 w 73080"/>
              <a:gd name="textAreaRight" fmla="*/ 73440 w 73080"/>
              <a:gd name="textAreaTop" fmla="*/ 7200 h 576360"/>
              <a:gd name="textAreaBottom" fmla="*/ 56916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2"/>
                  <a:pt x="10800" y="903"/>
                </a:cubicBezTo>
                <a:lnTo>
                  <a:pt x="10800" y="9897"/>
                </a:lnTo>
                <a:cubicBezTo>
                  <a:pt x="10800" y="10349"/>
                  <a:pt x="5400" y="10800"/>
                  <a:pt x="0" y="10800"/>
                </a:cubicBezTo>
                <a:cubicBezTo>
                  <a:pt x="5400" y="10800"/>
                  <a:pt x="10800" y="11252"/>
                  <a:pt x="10800" y="11703"/>
                </a:cubicBezTo>
                <a:lnTo>
                  <a:pt x="10800" y="20697"/>
                </a:lnTo>
                <a:cubicBezTo>
                  <a:pt x="10800" y="2114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81 Rectángulo"/>
          <p:cNvSpPr/>
          <p:nvPr/>
        </p:nvSpPr>
        <p:spPr>
          <a:xfrm>
            <a:off x="5293080" y="5751360"/>
            <a:ext cx="62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500 00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49"/>
          <p:cNvSpPr/>
          <p:nvPr/>
        </p:nvSpPr>
        <p:spPr>
          <a:xfrm>
            <a:off x="4714920" y="59259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AutoShape 28"/>
          <p:cNvSpPr/>
          <p:nvPr/>
        </p:nvSpPr>
        <p:spPr>
          <a:xfrm rot="16200000">
            <a:off x="7269840" y="5745600"/>
            <a:ext cx="73080" cy="576360"/>
          </a:xfrm>
          <a:custGeom>
            <a:avLst/>
            <a:gdLst>
              <a:gd name="textAreaLeft" fmla="*/ 46800 w 73080"/>
              <a:gd name="textAreaRight" fmla="*/ 73440 w 73080"/>
              <a:gd name="textAreaTop" fmla="*/ 7200 h 576360"/>
              <a:gd name="textAreaBottom" fmla="*/ 56916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2"/>
                  <a:pt x="10800" y="903"/>
                </a:cubicBezTo>
                <a:lnTo>
                  <a:pt x="10800" y="9897"/>
                </a:lnTo>
                <a:cubicBezTo>
                  <a:pt x="10800" y="10349"/>
                  <a:pt x="5400" y="10800"/>
                  <a:pt x="0" y="10800"/>
                </a:cubicBezTo>
                <a:cubicBezTo>
                  <a:pt x="5400" y="10800"/>
                  <a:pt x="10800" y="11252"/>
                  <a:pt x="10800" y="11703"/>
                </a:cubicBezTo>
                <a:lnTo>
                  <a:pt x="10800" y="20697"/>
                </a:lnTo>
                <a:cubicBezTo>
                  <a:pt x="10800" y="2114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84 Rectángulo"/>
          <p:cNvSpPr/>
          <p:nvPr/>
        </p:nvSpPr>
        <p:spPr>
          <a:xfrm>
            <a:off x="7014240" y="5751360"/>
            <a:ext cx="62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500 00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49"/>
          <p:cNvSpPr/>
          <p:nvPr/>
        </p:nvSpPr>
        <p:spPr>
          <a:xfrm>
            <a:off x="6095880" y="5925960"/>
            <a:ext cx="6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49"/>
          <p:cNvSpPr/>
          <p:nvPr/>
        </p:nvSpPr>
        <p:spPr>
          <a:xfrm flipV="1">
            <a:off x="4500720" y="32814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49"/>
          <p:cNvSpPr/>
          <p:nvPr/>
        </p:nvSpPr>
        <p:spPr>
          <a:xfrm flipV="1">
            <a:off x="3571920" y="32144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AutoShape 28"/>
          <p:cNvSpPr/>
          <p:nvPr/>
        </p:nvSpPr>
        <p:spPr>
          <a:xfrm rot="16200000">
            <a:off x="8335080" y="5745600"/>
            <a:ext cx="73080" cy="576360"/>
          </a:xfrm>
          <a:custGeom>
            <a:avLst/>
            <a:gdLst>
              <a:gd name="textAreaLeft" fmla="*/ 46800 w 73080"/>
              <a:gd name="textAreaRight" fmla="*/ 73440 w 73080"/>
              <a:gd name="textAreaTop" fmla="*/ 7200 h 576360"/>
              <a:gd name="textAreaBottom" fmla="*/ 56916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2"/>
                  <a:pt x="10800" y="903"/>
                </a:cubicBezTo>
                <a:lnTo>
                  <a:pt x="10800" y="9897"/>
                </a:lnTo>
                <a:cubicBezTo>
                  <a:pt x="10800" y="10349"/>
                  <a:pt x="5400" y="10800"/>
                  <a:pt x="0" y="10800"/>
                </a:cubicBezTo>
                <a:cubicBezTo>
                  <a:pt x="5400" y="10800"/>
                  <a:pt x="10800" y="11252"/>
                  <a:pt x="10800" y="11703"/>
                </a:cubicBezTo>
                <a:lnTo>
                  <a:pt x="10800" y="20697"/>
                </a:lnTo>
                <a:cubicBezTo>
                  <a:pt x="10800" y="2114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94 Rectángulo"/>
          <p:cNvSpPr/>
          <p:nvPr/>
        </p:nvSpPr>
        <p:spPr>
          <a:xfrm>
            <a:off x="8079120" y="5751360"/>
            <a:ext cx="62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500 00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49"/>
          <p:cNvSpPr/>
          <p:nvPr/>
        </p:nvSpPr>
        <p:spPr>
          <a:xfrm>
            <a:off x="7677000" y="5925960"/>
            <a:ext cx="2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AutoShape 51"/>
          <p:cNvGrpSpPr/>
          <p:nvPr/>
        </p:nvGrpSpPr>
        <p:grpSpPr>
          <a:xfrm>
            <a:off x="2481120" y="5102280"/>
            <a:ext cx="1779840" cy="566640"/>
            <a:chOff x="2481120" y="5102280"/>
            <a:chExt cx="1779840" cy="566640"/>
          </a:xfrm>
        </p:grpSpPr>
        <p:pic>
          <p:nvPicPr>
            <p:cNvPr id="759" name="AutoShape 51" descr=""/>
            <p:cNvPicPr/>
            <p:nvPr/>
          </p:nvPicPr>
          <p:blipFill>
            <a:blip r:embed="rId6"/>
            <a:stretch/>
          </p:blipFill>
          <p:spPr>
            <a:xfrm>
              <a:off x="2481120" y="5102280"/>
              <a:ext cx="177984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2616120" y="5173560"/>
              <a:ext cx="150660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Georgia"/>
                </a:rPr>
                <a:t>Certifica ocasionales, CTS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Georgia"/>
                </a:rPr>
                <a:t>gratificaciones, aguinald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1" name="AutoShape 52"/>
          <p:cNvSpPr/>
          <p:nvPr/>
        </p:nvSpPr>
        <p:spPr>
          <a:xfrm>
            <a:off x="4143240" y="4929120"/>
            <a:ext cx="1357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Georgia"/>
              </a:rPr>
              <a:t>Comprom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Georgia"/>
              </a:rPr>
              <a:t>la ocasionales cuan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Georgia"/>
              </a:rPr>
              <a:t>se emite la Resolu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49"/>
          <p:cNvSpPr/>
          <p:nvPr/>
        </p:nvSpPr>
        <p:spPr>
          <a:xfrm>
            <a:off x="5572080" y="56419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49"/>
          <p:cNvSpPr/>
          <p:nvPr/>
        </p:nvSpPr>
        <p:spPr>
          <a:xfrm>
            <a:off x="3000240" y="200016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AutoShape 5"/>
          <p:cNvGrpSpPr/>
          <p:nvPr/>
        </p:nvGrpSpPr>
        <p:grpSpPr>
          <a:xfrm>
            <a:off x="5553000" y="4809960"/>
            <a:ext cx="1401840" cy="858960"/>
            <a:chOff x="5553000" y="4809960"/>
            <a:chExt cx="1401840" cy="858960"/>
          </a:xfrm>
        </p:grpSpPr>
        <p:pic>
          <p:nvPicPr>
            <p:cNvPr id="765" name="AutoShape 5" descr=""/>
            <p:cNvPicPr/>
            <p:nvPr/>
          </p:nvPicPr>
          <p:blipFill>
            <a:blip r:embed="rId7"/>
            <a:stretch/>
          </p:blipFill>
          <p:spPr>
            <a:xfrm>
              <a:off x="5553000" y="4809960"/>
              <a:ext cx="140184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>
              <a:off x="5688000" y="4892760"/>
              <a:ext cx="11350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Georgia"/>
                </a:rPr>
                <a:t>Oficina  Financier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Georgia"/>
                </a:rPr>
                <a:t>devenga c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Georgia"/>
                </a:rPr>
                <a:t>La resolu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Line 49"/>
          <p:cNvSpPr/>
          <p:nvPr/>
        </p:nvSpPr>
        <p:spPr>
          <a:xfrm>
            <a:off x="4429080" y="5500800"/>
            <a:ext cx="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6"/>
          <p:cNvSpPr/>
          <p:nvPr/>
        </p:nvSpPr>
        <p:spPr>
          <a:xfrm>
            <a:off x="1000080" y="245916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49"/>
          <p:cNvSpPr/>
          <p:nvPr/>
        </p:nvSpPr>
        <p:spPr>
          <a:xfrm>
            <a:off x="3857760" y="242892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49"/>
          <p:cNvSpPr/>
          <p:nvPr/>
        </p:nvSpPr>
        <p:spPr>
          <a:xfrm>
            <a:off x="3857760" y="264312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49"/>
          <p:cNvSpPr/>
          <p:nvPr/>
        </p:nvSpPr>
        <p:spPr>
          <a:xfrm>
            <a:off x="3857760" y="285768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49"/>
          <p:cNvSpPr/>
          <p:nvPr/>
        </p:nvSpPr>
        <p:spPr>
          <a:xfrm>
            <a:off x="3857760" y="307188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49"/>
          <p:cNvSpPr/>
          <p:nvPr/>
        </p:nvSpPr>
        <p:spPr>
          <a:xfrm>
            <a:off x="4678200" y="2428920"/>
            <a:ext cx="1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49"/>
          <p:cNvSpPr/>
          <p:nvPr/>
        </p:nvSpPr>
        <p:spPr>
          <a:xfrm>
            <a:off x="4678200" y="2643120"/>
            <a:ext cx="1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49"/>
          <p:cNvSpPr/>
          <p:nvPr/>
        </p:nvSpPr>
        <p:spPr>
          <a:xfrm>
            <a:off x="4678200" y="2857680"/>
            <a:ext cx="1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49"/>
          <p:cNvSpPr/>
          <p:nvPr/>
        </p:nvSpPr>
        <p:spPr>
          <a:xfrm>
            <a:off x="4286160" y="20718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49"/>
          <p:cNvSpPr/>
          <p:nvPr/>
        </p:nvSpPr>
        <p:spPr>
          <a:xfrm>
            <a:off x="4643280" y="3071880"/>
            <a:ext cx="1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49"/>
          <p:cNvSpPr/>
          <p:nvPr/>
        </p:nvSpPr>
        <p:spPr>
          <a:xfrm>
            <a:off x="6143760" y="242892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49"/>
          <p:cNvSpPr/>
          <p:nvPr/>
        </p:nvSpPr>
        <p:spPr>
          <a:xfrm>
            <a:off x="6143760" y="264312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49"/>
          <p:cNvSpPr/>
          <p:nvPr/>
        </p:nvSpPr>
        <p:spPr>
          <a:xfrm>
            <a:off x="5286240" y="20718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49"/>
          <p:cNvSpPr/>
          <p:nvPr/>
        </p:nvSpPr>
        <p:spPr>
          <a:xfrm>
            <a:off x="6143760" y="285768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49"/>
          <p:cNvSpPr/>
          <p:nvPr/>
        </p:nvSpPr>
        <p:spPr>
          <a:xfrm>
            <a:off x="6143760" y="300024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49"/>
          <p:cNvSpPr/>
          <p:nvPr/>
        </p:nvSpPr>
        <p:spPr>
          <a:xfrm>
            <a:off x="7535880" y="242892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49"/>
          <p:cNvSpPr/>
          <p:nvPr/>
        </p:nvSpPr>
        <p:spPr>
          <a:xfrm>
            <a:off x="7500960" y="257184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49"/>
          <p:cNvSpPr/>
          <p:nvPr/>
        </p:nvSpPr>
        <p:spPr>
          <a:xfrm>
            <a:off x="7535880" y="278604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49"/>
          <p:cNvSpPr/>
          <p:nvPr/>
        </p:nvSpPr>
        <p:spPr>
          <a:xfrm>
            <a:off x="7535880" y="300024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4"/>
          <p:cNvSpPr/>
          <p:nvPr/>
        </p:nvSpPr>
        <p:spPr>
          <a:xfrm>
            <a:off x="2643120" y="4357800"/>
            <a:ext cx="1357560" cy="714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La oficina encarga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(pers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solicita la certific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(Módulo de planilla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49"/>
          <p:cNvSpPr/>
          <p:nvPr/>
        </p:nvSpPr>
        <p:spPr>
          <a:xfrm flipV="1">
            <a:off x="3571920" y="42145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49"/>
          <p:cNvSpPr/>
          <p:nvPr/>
        </p:nvSpPr>
        <p:spPr>
          <a:xfrm flipV="1">
            <a:off x="5286240" y="325116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18 CuadroTexto"/>
          <p:cNvSpPr/>
          <p:nvPr/>
        </p:nvSpPr>
        <p:spPr>
          <a:xfrm>
            <a:off x="1427040" y="2952720"/>
            <a:ext cx="28764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18 CuadroTexto"/>
          <p:cNvSpPr/>
          <p:nvPr/>
        </p:nvSpPr>
        <p:spPr>
          <a:xfrm>
            <a:off x="2214720" y="4572000"/>
            <a:ext cx="28728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18 CuadroTexto"/>
          <p:cNvSpPr/>
          <p:nvPr/>
        </p:nvSpPr>
        <p:spPr>
          <a:xfrm>
            <a:off x="2143080" y="3595680"/>
            <a:ext cx="28728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18 CuadroTexto"/>
          <p:cNvSpPr/>
          <p:nvPr/>
        </p:nvSpPr>
        <p:spPr>
          <a:xfrm>
            <a:off x="4213080" y="3738600"/>
            <a:ext cx="28764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18 CuadroTexto"/>
          <p:cNvSpPr/>
          <p:nvPr/>
        </p:nvSpPr>
        <p:spPr>
          <a:xfrm>
            <a:off x="5999040" y="3571920"/>
            <a:ext cx="28764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18 CuadroTexto"/>
          <p:cNvSpPr/>
          <p:nvPr/>
        </p:nvSpPr>
        <p:spPr>
          <a:xfrm>
            <a:off x="6572160" y="2000160"/>
            <a:ext cx="28728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18 CuadroTexto"/>
          <p:cNvSpPr/>
          <p:nvPr/>
        </p:nvSpPr>
        <p:spPr>
          <a:xfrm>
            <a:off x="2355840" y="1643040"/>
            <a:ext cx="28728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18 CuadroTexto"/>
          <p:cNvSpPr/>
          <p:nvPr/>
        </p:nvSpPr>
        <p:spPr>
          <a:xfrm>
            <a:off x="7786800" y="2071800"/>
            <a:ext cx="28728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18 CuadroTexto"/>
          <p:cNvSpPr/>
          <p:nvPr/>
        </p:nvSpPr>
        <p:spPr>
          <a:xfrm>
            <a:off x="2141640" y="5238720"/>
            <a:ext cx="28728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18 CuadroTexto"/>
          <p:cNvSpPr/>
          <p:nvPr/>
        </p:nvSpPr>
        <p:spPr>
          <a:xfrm>
            <a:off x="4784760" y="5452920"/>
            <a:ext cx="35892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Picture 89" descr=""/>
          <p:cNvPicPr/>
          <p:nvPr/>
        </p:nvPicPr>
        <p:blipFill>
          <a:blip r:embed="rId8"/>
          <a:stretch/>
        </p:blipFill>
        <p:spPr>
          <a:xfrm>
            <a:off x="61920" y="4807080"/>
            <a:ext cx="2690640" cy="1942920"/>
          </a:xfrm>
          <a:prstGeom prst="rect">
            <a:avLst/>
          </a:prstGeom>
          <a:ln w="0">
            <a:noFill/>
          </a:ln>
        </p:spPr>
      </p:pic>
      <p:sp>
        <p:nvSpPr>
          <p:cNvPr id="801" name="18 CuadroTexto"/>
          <p:cNvSpPr/>
          <p:nvPr/>
        </p:nvSpPr>
        <p:spPr>
          <a:xfrm>
            <a:off x="6927840" y="5072040"/>
            <a:ext cx="35892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70 CuadroTexto"/>
          <p:cNvSpPr/>
          <p:nvPr/>
        </p:nvSpPr>
        <p:spPr>
          <a:xfrm>
            <a:off x="285840" y="333360"/>
            <a:ext cx="84294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PROCESO DE EJECUCIÓN  2011 - Ejemp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2 Marcador de contenido"/>
          <p:cNvSpPr/>
          <p:nvPr/>
        </p:nvSpPr>
        <p:spPr>
          <a:xfrm>
            <a:off x="357120" y="857160"/>
            <a:ext cx="82868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eorgia"/>
              </a:rPr>
              <a:t>Bienes y Servi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utoShape 3"/>
          <p:cNvSpPr/>
          <p:nvPr/>
        </p:nvSpPr>
        <p:spPr>
          <a:xfrm>
            <a:off x="142920" y="2000160"/>
            <a:ext cx="928800" cy="642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Mar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Presupues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PIA - PI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S/.  60 000 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6"/>
          <p:cNvSpPr/>
          <p:nvPr/>
        </p:nvSpPr>
        <p:spPr>
          <a:xfrm>
            <a:off x="5715000" y="1500120"/>
            <a:ext cx="714240" cy="432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Georgia"/>
              </a:rPr>
              <a:t>Deveng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7"/>
          <p:cNvSpPr/>
          <p:nvPr/>
        </p:nvSpPr>
        <p:spPr>
          <a:xfrm>
            <a:off x="7858080" y="1571760"/>
            <a:ext cx="758880" cy="28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8"/>
          <p:cNvSpPr/>
          <p:nvPr/>
        </p:nvSpPr>
        <p:spPr>
          <a:xfrm>
            <a:off x="142920" y="1214280"/>
            <a:ext cx="2000160" cy="3214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9"/>
          <p:cNvSpPr/>
          <p:nvPr/>
        </p:nvSpPr>
        <p:spPr>
          <a:xfrm>
            <a:off x="428760" y="1500120"/>
            <a:ext cx="142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00"/>
                </a:solidFill>
                <a:latin typeface="Calibri"/>
              </a:rPr>
              <a:t>DGPP - DGA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10"/>
          <p:cNvSpPr/>
          <p:nvPr/>
        </p:nvSpPr>
        <p:spPr>
          <a:xfrm>
            <a:off x="2214720" y="1214280"/>
            <a:ext cx="4286160" cy="5143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13"/>
          <p:cNvSpPr/>
          <p:nvPr/>
        </p:nvSpPr>
        <p:spPr>
          <a:xfrm>
            <a:off x="7742160" y="1285920"/>
            <a:ext cx="1150920" cy="50720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20"/>
          <p:cNvSpPr/>
          <p:nvPr/>
        </p:nvSpPr>
        <p:spPr>
          <a:xfrm>
            <a:off x="2214720" y="2214720"/>
            <a:ext cx="6572160" cy="18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55 000 000   B a   4 000 000                         4 000 000                               500 000                      500 000                          500 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es-ES" sz="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   5 000 000                    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B c   5 000 000                    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B r 30 000 000                     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S a   3 000 000                        3 000 000                               300 000                       300 000                          300 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S r   8 000 000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AutoShape 28"/>
          <p:cNvSpPr/>
          <p:nvPr/>
        </p:nvSpPr>
        <p:spPr>
          <a:xfrm rot="16200000">
            <a:off x="2573280" y="3282480"/>
            <a:ext cx="73080" cy="647640"/>
          </a:xfrm>
          <a:custGeom>
            <a:avLst/>
            <a:gdLst>
              <a:gd name="textAreaLeft" fmla="*/ 46800 w 73080"/>
              <a:gd name="textAreaRight" fmla="*/ 73440 w 73080"/>
              <a:gd name="textAreaTop" fmla="*/ 7200 h 647640"/>
              <a:gd name="textAreaBottom" fmla="*/ 64044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2"/>
                  <a:pt x="10800" y="803"/>
                </a:cubicBezTo>
                <a:lnTo>
                  <a:pt x="10800" y="9997"/>
                </a:lnTo>
                <a:cubicBezTo>
                  <a:pt x="10800" y="10399"/>
                  <a:pt x="5400" y="10800"/>
                  <a:pt x="0" y="10800"/>
                </a:cubicBezTo>
                <a:cubicBezTo>
                  <a:pt x="5400" y="10800"/>
                  <a:pt x="10800" y="11202"/>
                  <a:pt x="10800" y="11603"/>
                </a:cubicBezTo>
                <a:lnTo>
                  <a:pt x="10800" y="20797"/>
                </a:lnTo>
                <a:cubicBezTo>
                  <a:pt x="10800" y="2119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AutoShape 52"/>
          <p:cNvSpPr/>
          <p:nvPr/>
        </p:nvSpPr>
        <p:spPr>
          <a:xfrm>
            <a:off x="4214880" y="4071960"/>
            <a:ext cx="1357200" cy="785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Georgia"/>
              </a:rPr>
              <a:t>La oficina  encargada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Georgia"/>
              </a:rPr>
              <a:t>compromete por 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Georgia"/>
              </a:rPr>
              <a:t>monto  total  previs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Georgia"/>
              </a:rPr>
              <a:t>por cada contra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Georgia"/>
              </a:rPr>
              <a:t>de bien o serv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54"/>
          <p:cNvSpPr/>
          <p:nvPr/>
        </p:nvSpPr>
        <p:spPr>
          <a:xfrm>
            <a:off x="4000680" y="114300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b400"/>
                </a:solidFill>
                <a:latin typeface="Calibri"/>
              </a:rPr>
              <a:t>PLIEGO  -  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AutoShape 4"/>
          <p:cNvSpPr/>
          <p:nvPr/>
        </p:nvSpPr>
        <p:spPr>
          <a:xfrm>
            <a:off x="2714760" y="5072040"/>
            <a:ext cx="1357200" cy="714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La oficina encarga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(abastecimiento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solicita la certific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(PAA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AutoShape 28"/>
          <p:cNvSpPr/>
          <p:nvPr/>
        </p:nvSpPr>
        <p:spPr>
          <a:xfrm rot="16200000">
            <a:off x="3359880" y="3208680"/>
            <a:ext cx="73080" cy="792360"/>
          </a:xfrm>
          <a:custGeom>
            <a:avLst/>
            <a:gdLst>
              <a:gd name="textAreaLeft" fmla="*/ 46800 w 73080"/>
              <a:gd name="textAreaRight" fmla="*/ 73440 w 73080"/>
              <a:gd name="textAreaTop" fmla="*/ 7200 h 792360"/>
              <a:gd name="textAreaBottom" fmla="*/ 78516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9"/>
                  <a:pt x="10800" y="658"/>
                </a:cubicBezTo>
                <a:lnTo>
                  <a:pt x="10800" y="10142"/>
                </a:lnTo>
                <a:cubicBezTo>
                  <a:pt x="10800" y="10471"/>
                  <a:pt x="5400" y="10800"/>
                  <a:pt x="0" y="10800"/>
                </a:cubicBezTo>
                <a:cubicBezTo>
                  <a:pt x="5400" y="10800"/>
                  <a:pt x="10800" y="11129"/>
                  <a:pt x="10800" y="11458"/>
                </a:cubicBezTo>
                <a:lnTo>
                  <a:pt x="10800" y="20942"/>
                </a:lnTo>
                <a:cubicBezTo>
                  <a:pt x="10800" y="2127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" name="AutoShape 5"/>
          <p:cNvGrpSpPr/>
          <p:nvPr/>
        </p:nvGrpSpPr>
        <p:grpSpPr>
          <a:xfrm>
            <a:off x="6645240" y="1523880"/>
            <a:ext cx="919080" cy="433440"/>
            <a:chOff x="6645240" y="1523880"/>
            <a:chExt cx="919080" cy="433440"/>
          </a:xfrm>
        </p:grpSpPr>
        <p:pic>
          <p:nvPicPr>
            <p:cNvPr id="818" name="AutoShape 5" descr=""/>
            <p:cNvPicPr/>
            <p:nvPr/>
          </p:nvPicPr>
          <p:blipFill>
            <a:blip r:embed="rId1"/>
            <a:stretch/>
          </p:blipFill>
          <p:spPr>
            <a:xfrm>
              <a:off x="6645240" y="1523880"/>
              <a:ext cx="91908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9" name=""/>
            <p:cNvSpPr/>
            <p:nvPr/>
          </p:nvSpPr>
          <p:spPr>
            <a:xfrm>
              <a:off x="6729480" y="1585800"/>
              <a:ext cx="75708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Georgia"/>
                </a:rPr>
                <a:t>Gir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0" name="Text Box 54"/>
          <p:cNvSpPr/>
          <p:nvPr/>
        </p:nvSpPr>
        <p:spPr>
          <a:xfrm>
            <a:off x="6786720" y="1285920"/>
            <a:ext cx="7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ccb400"/>
                </a:solidFill>
                <a:latin typeface="Calibri"/>
              </a:rPr>
              <a:t>DN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AutoShape 51"/>
          <p:cNvGrpSpPr/>
          <p:nvPr/>
        </p:nvGrpSpPr>
        <p:grpSpPr>
          <a:xfrm>
            <a:off x="1030320" y="1878120"/>
            <a:ext cx="1219320" cy="957240"/>
            <a:chOff x="1030320" y="1878120"/>
            <a:chExt cx="1219320" cy="957240"/>
          </a:xfrm>
        </p:grpSpPr>
        <p:pic>
          <p:nvPicPr>
            <p:cNvPr id="822" name="AutoShape 51" descr=""/>
            <p:cNvPicPr/>
            <p:nvPr/>
          </p:nvPicPr>
          <p:blipFill>
            <a:blip r:embed="rId2"/>
            <a:stretch/>
          </p:blipFill>
          <p:spPr>
            <a:xfrm>
              <a:off x="1030320" y="1878120"/>
              <a:ext cx="121932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254240" y="1968480"/>
              <a:ext cx="7776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Georgia"/>
                </a:rPr>
                <a:t>P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Georgia"/>
                </a:rPr>
                <a:t>Bienes  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s-MX" sz="1000" spc="-1" strike="noStrike">
                  <a:solidFill>
                    <a:srgbClr val="000000"/>
                  </a:solidFill>
                  <a:latin typeface="Georgia"/>
                </a:rPr>
                <a:t>Servicio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Georgia"/>
                </a:rPr>
                <a:t>S/. 55 000 00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AutoShape 5"/>
          <p:cNvGrpSpPr/>
          <p:nvPr/>
        </p:nvGrpSpPr>
        <p:grpSpPr>
          <a:xfrm>
            <a:off x="5492880" y="3949560"/>
            <a:ext cx="1444320" cy="1006560"/>
            <a:chOff x="5492880" y="3949560"/>
            <a:chExt cx="1444320" cy="1006560"/>
          </a:xfrm>
        </p:grpSpPr>
        <p:pic>
          <p:nvPicPr>
            <p:cNvPr id="825" name="AutoShape 5" descr=""/>
            <p:cNvPicPr/>
            <p:nvPr/>
          </p:nvPicPr>
          <p:blipFill>
            <a:blip r:embed="rId3"/>
            <a:stretch/>
          </p:blipFill>
          <p:spPr>
            <a:xfrm>
              <a:off x="5492880" y="3949560"/>
              <a:ext cx="144432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6" name=""/>
            <p:cNvSpPr/>
            <p:nvPr/>
          </p:nvSpPr>
          <p:spPr>
            <a:xfrm>
              <a:off x="5684760" y="4041720"/>
              <a:ext cx="106056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Georgia"/>
                </a:rPr>
                <a:t>Financiera deveng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Georgia"/>
                </a:rPr>
                <a:t>con la conformid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Georgia"/>
                </a:rPr>
                <a:t>de la  oficina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Georgia"/>
                </a:rPr>
                <a:t>correspondien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7" name="55 Marcador de número de diapositiva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2E14-A43C-4585-B7F4-154432C3B5D5}" type="slidenum">
              <a:rPr b="0" lang="es-ES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54"/>
          <p:cNvSpPr/>
          <p:nvPr/>
        </p:nvSpPr>
        <p:spPr>
          <a:xfrm>
            <a:off x="7715160" y="1285920"/>
            <a:ext cx="121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b400"/>
                </a:solidFill>
                <a:latin typeface="Calibri"/>
              </a:rPr>
              <a:t>PLIEGO - 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13"/>
          <p:cNvSpPr/>
          <p:nvPr/>
        </p:nvSpPr>
        <p:spPr>
          <a:xfrm>
            <a:off x="6572160" y="1285920"/>
            <a:ext cx="1079640" cy="50720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0" name="AutoShape 51"/>
          <p:cNvGrpSpPr/>
          <p:nvPr/>
        </p:nvGrpSpPr>
        <p:grpSpPr>
          <a:xfrm>
            <a:off x="2530440" y="4022640"/>
            <a:ext cx="1797120" cy="933480"/>
            <a:chOff x="2530440" y="4022640"/>
            <a:chExt cx="1797120" cy="933480"/>
          </a:xfrm>
        </p:grpSpPr>
        <p:pic>
          <p:nvPicPr>
            <p:cNvPr id="831" name="AutoShape 51" descr=""/>
            <p:cNvPicPr/>
            <p:nvPr/>
          </p:nvPicPr>
          <p:blipFill>
            <a:blip r:embed="rId4"/>
            <a:stretch/>
          </p:blipFill>
          <p:spPr>
            <a:xfrm>
              <a:off x="2530440" y="4022640"/>
              <a:ext cx="179712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2" name=""/>
            <p:cNvSpPr/>
            <p:nvPr/>
          </p:nvSpPr>
          <p:spPr>
            <a:xfrm>
              <a:off x="2752560" y="4110120"/>
              <a:ext cx="13528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Georgia"/>
                </a:rPr>
                <a:t>La OPP de la UE certifica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Georgia"/>
                </a:rPr>
                <a:t>la existencia  de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Georgia"/>
                </a:rPr>
                <a:t>recursos por cad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s-ES" sz="1000" spc="-1" strike="noStrike">
                  <a:solidFill>
                    <a:srgbClr val="000000"/>
                  </a:solidFill>
                  <a:latin typeface="Georgia"/>
                </a:rPr>
                <a:t>bien o serv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3" name="AutoShape 4"/>
          <p:cNvSpPr/>
          <p:nvPr/>
        </p:nvSpPr>
        <p:spPr>
          <a:xfrm>
            <a:off x="3000240" y="1357200"/>
            <a:ext cx="792360" cy="503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Priori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49"/>
          <p:cNvSpPr/>
          <p:nvPr/>
        </p:nvSpPr>
        <p:spPr>
          <a:xfrm>
            <a:off x="6072120" y="1928880"/>
            <a:ext cx="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49"/>
          <p:cNvSpPr/>
          <p:nvPr/>
        </p:nvSpPr>
        <p:spPr>
          <a:xfrm>
            <a:off x="2071800" y="235728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49"/>
          <p:cNvSpPr/>
          <p:nvPr/>
        </p:nvSpPr>
        <p:spPr>
          <a:xfrm flipV="1">
            <a:off x="3429000" y="38574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16"/>
          <p:cNvSpPr/>
          <p:nvPr/>
        </p:nvSpPr>
        <p:spPr>
          <a:xfrm>
            <a:off x="1071720" y="2357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49"/>
          <p:cNvSpPr/>
          <p:nvPr/>
        </p:nvSpPr>
        <p:spPr>
          <a:xfrm>
            <a:off x="3429000" y="18558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49"/>
          <p:cNvSpPr/>
          <p:nvPr/>
        </p:nvSpPr>
        <p:spPr>
          <a:xfrm flipV="1">
            <a:off x="3429000" y="489276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AutoShape 28"/>
          <p:cNvSpPr/>
          <p:nvPr/>
        </p:nvSpPr>
        <p:spPr>
          <a:xfrm rot="16200000">
            <a:off x="4717080" y="3210120"/>
            <a:ext cx="73080" cy="792000"/>
          </a:xfrm>
          <a:custGeom>
            <a:avLst/>
            <a:gdLst>
              <a:gd name="textAreaLeft" fmla="*/ 46800 w 73080"/>
              <a:gd name="textAreaRight" fmla="*/ 73440 w 73080"/>
              <a:gd name="textAreaTop" fmla="*/ 7200 h 792000"/>
              <a:gd name="textAreaBottom" fmla="*/ 7848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9"/>
                  <a:pt x="10800" y="658"/>
                </a:cubicBezTo>
                <a:lnTo>
                  <a:pt x="10800" y="10142"/>
                </a:lnTo>
                <a:cubicBezTo>
                  <a:pt x="10800" y="10471"/>
                  <a:pt x="5400" y="10800"/>
                  <a:pt x="0" y="10800"/>
                </a:cubicBezTo>
                <a:cubicBezTo>
                  <a:pt x="5400" y="10800"/>
                  <a:pt x="10800" y="11129"/>
                  <a:pt x="10800" y="11458"/>
                </a:cubicBezTo>
                <a:lnTo>
                  <a:pt x="10800" y="20942"/>
                </a:lnTo>
                <a:cubicBezTo>
                  <a:pt x="10800" y="2127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49"/>
          <p:cNvSpPr/>
          <p:nvPr/>
        </p:nvSpPr>
        <p:spPr>
          <a:xfrm flipV="1">
            <a:off x="4786200" y="38574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AutoShape 5"/>
          <p:cNvGrpSpPr/>
          <p:nvPr/>
        </p:nvGrpSpPr>
        <p:grpSpPr>
          <a:xfrm>
            <a:off x="4218120" y="1523880"/>
            <a:ext cx="1060200" cy="579600"/>
            <a:chOff x="4218120" y="1523880"/>
            <a:chExt cx="1060200" cy="579600"/>
          </a:xfrm>
        </p:grpSpPr>
        <p:pic>
          <p:nvPicPr>
            <p:cNvPr id="843" name="AutoShape 5" descr=""/>
            <p:cNvPicPr/>
            <p:nvPr/>
          </p:nvPicPr>
          <p:blipFill>
            <a:blip r:embed="rId5"/>
            <a:stretch/>
          </p:blipFill>
          <p:spPr>
            <a:xfrm>
              <a:off x="4218120" y="1523880"/>
              <a:ext cx="106020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4" name=""/>
            <p:cNvSpPr/>
            <p:nvPr/>
          </p:nvSpPr>
          <p:spPr>
            <a:xfrm>
              <a:off x="4378320" y="1592280"/>
              <a:ext cx="7444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Georgia"/>
                </a:rPr>
                <a:t>Compromis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Georgia"/>
                </a:rPr>
                <a:t>Anu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Line 49"/>
          <p:cNvSpPr/>
          <p:nvPr/>
        </p:nvSpPr>
        <p:spPr>
          <a:xfrm>
            <a:off x="4786200" y="200016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49"/>
          <p:cNvSpPr/>
          <p:nvPr/>
        </p:nvSpPr>
        <p:spPr>
          <a:xfrm>
            <a:off x="3929040" y="235728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Line 49"/>
          <p:cNvSpPr/>
          <p:nvPr/>
        </p:nvSpPr>
        <p:spPr>
          <a:xfrm>
            <a:off x="3929040" y="257184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49"/>
          <p:cNvSpPr/>
          <p:nvPr/>
        </p:nvSpPr>
        <p:spPr>
          <a:xfrm>
            <a:off x="3929040" y="278604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Line 49"/>
          <p:cNvSpPr/>
          <p:nvPr/>
        </p:nvSpPr>
        <p:spPr>
          <a:xfrm>
            <a:off x="3929040" y="300024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AutoShape 28"/>
          <p:cNvSpPr/>
          <p:nvPr/>
        </p:nvSpPr>
        <p:spPr>
          <a:xfrm rot="16200000">
            <a:off x="5996520" y="3210120"/>
            <a:ext cx="73080" cy="792000"/>
          </a:xfrm>
          <a:custGeom>
            <a:avLst/>
            <a:gdLst>
              <a:gd name="textAreaLeft" fmla="*/ 46800 w 73080"/>
              <a:gd name="textAreaRight" fmla="*/ 73440 w 73080"/>
              <a:gd name="textAreaTop" fmla="*/ 7200 h 792000"/>
              <a:gd name="textAreaBottom" fmla="*/ 7848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9"/>
                  <a:pt x="10800" y="658"/>
                </a:cubicBezTo>
                <a:lnTo>
                  <a:pt x="10800" y="10142"/>
                </a:lnTo>
                <a:cubicBezTo>
                  <a:pt x="10800" y="10471"/>
                  <a:pt x="5400" y="10800"/>
                  <a:pt x="0" y="10800"/>
                </a:cubicBezTo>
                <a:cubicBezTo>
                  <a:pt x="5400" y="10800"/>
                  <a:pt x="10800" y="11129"/>
                  <a:pt x="10800" y="11458"/>
                </a:cubicBezTo>
                <a:lnTo>
                  <a:pt x="10800" y="20942"/>
                </a:lnTo>
                <a:cubicBezTo>
                  <a:pt x="10800" y="2127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49"/>
          <p:cNvSpPr/>
          <p:nvPr/>
        </p:nvSpPr>
        <p:spPr>
          <a:xfrm>
            <a:off x="5286240" y="2357280"/>
            <a:ext cx="2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49"/>
          <p:cNvSpPr/>
          <p:nvPr/>
        </p:nvSpPr>
        <p:spPr>
          <a:xfrm>
            <a:off x="5286240" y="2786040"/>
            <a:ext cx="2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49"/>
          <p:cNvSpPr/>
          <p:nvPr/>
        </p:nvSpPr>
        <p:spPr>
          <a:xfrm>
            <a:off x="6462720" y="235728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49"/>
          <p:cNvSpPr/>
          <p:nvPr/>
        </p:nvSpPr>
        <p:spPr>
          <a:xfrm>
            <a:off x="7072200" y="1857240"/>
            <a:ext cx="0" cy="2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49"/>
          <p:cNvSpPr/>
          <p:nvPr/>
        </p:nvSpPr>
        <p:spPr>
          <a:xfrm>
            <a:off x="6462720" y="278604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AutoShape 28"/>
          <p:cNvSpPr/>
          <p:nvPr/>
        </p:nvSpPr>
        <p:spPr>
          <a:xfrm rot="16200000">
            <a:off x="7068240" y="3210120"/>
            <a:ext cx="73080" cy="792360"/>
          </a:xfrm>
          <a:custGeom>
            <a:avLst/>
            <a:gdLst>
              <a:gd name="textAreaLeft" fmla="*/ 46800 w 73080"/>
              <a:gd name="textAreaRight" fmla="*/ 73440 w 73080"/>
              <a:gd name="textAreaTop" fmla="*/ 7200 h 792360"/>
              <a:gd name="textAreaBottom" fmla="*/ 78516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9"/>
                  <a:pt x="10800" y="658"/>
                </a:cubicBezTo>
                <a:lnTo>
                  <a:pt x="10800" y="10142"/>
                </a:lnTo>
                <a:cubicBezTo>
                  <a:pt x="10800" y="10471"/>
                  <a:pt x="5400" y="10800"/>
                  <a:pt x="0" y="10800"/>
                </a:cubicBezTo>
                <a:cubicBezTo>
                  <a:pt x="5400" y="10800"/>
                  <a:pt x="10800" y="11129"/>
                  <a:pt x="10800" y="11458"/>
                </a:cubicBezTo>
                <a:lnTo>
                  <a:pt x="10800" y="20942"/>
                </a:lnTo>
                <a:cubicBezTo>
                  <a:pt x="10800" y="2127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AutoShape 28"/>
          <p:cNvSpPr/>
          <p:nvPr/>
        </p:nvSpPr>
        <p:spPr>
          <a:xfrm rot="16200000">
            <a:off x="8217720" y="3210120"/>
            <a:ext cx="73080" cy="792360"/>
          </a:xfrm>
          <a:custGeom>
            <a:avLst/>
            <a:gdLst>
              <a:gd name="textAreaLeft" fmla="*/ 46800 w 73080"/>
              <a:gd name="textAreaRight" fmla="*/ 73440 w 73080"/>
              <a:gd name="textAreaTop" fmla="*/ 7200 h 792360"/>
              <a:gd name="textAreaBottom" fmla="*/ 78516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9"/>
                  <a:pt x="10800" y="658"/>
                </a:cubicBezTo>
                <a:lnTo>
                  <a:pt x="10800" y="10142"/>
                </a:lnTo>
                <a:cubicBezTo>
                  <a:pt x="10800" y="10471"/>
                  <a:pt x="5400" y="10800"/>
                  <a:pt x="0" y="10800"/>
                </a:cubicBezTo>
                <a:cubicBezTo>
                  <a:pt x="5400" y="10800"/>
                  <a:pt x="10800" y="11129"/>
                  <a:pt x="10800" y="11458"/>
                </a:cubicBezTo>
                <a:lnTo>
                  <a:pt x="10800" y="20942"/>
                </a:lnTo>
                <a:cubicBezTo>
                  <a:pt x="10800" y="2127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49"/>
          <p:cNvSpPr/>
          <p:nvPr/>
        </p:nvSpPr>
        <p:spPr>
          <a:xfrm>
            <a:off x="7643880" y="235728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49"/>
          <p:cNvSpPr/>
          <p:nvPr/>
        </p:nvSpPr>
        <p:spPr>
          <a:xfrm>
            <a:off x="7643880" y="278604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Picture 43" descr=""/>
          <p:cNvPicPr/>
          <p:nvPr/>
        </p:nvPicPr>
        <p:blipFill>
          <a:blip r:embed="rId6"/>
          <a:stretch/>
        </p:blipFill>
        <p:spPr>
          <a:xfrm>
            <a:off x="3643200" y="3571920"/>
            <a:ext cx="857520" cy="276120"/>
          </a:xfrm>
          <a:prstGeom prst="rect">
            <a:avLst/>
          </a:prstGeom>
          <a:ln w="0">
            <a:noFill/>
          </a:ln>
        </p:spPr>
      </p:pic>
      <p:sp>
        <p:nvSpPr>
          <p:cNvPr id="861" name="Line 49"/>
          <p:cNvSpPr/>
          <p:nvPr/>
        </p:nvSpPr>
        <p:spPr>
          <a:xfrm>
            <a:off x="3929040" y="321480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49"/>
          <p:cNvSpPr/>
          <p:nvPr/>
        </p:nvSpPr>
        <p:spPr>
          <a:xfrm>
            <a:off x="3929040" y="350028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AutoShape 52"/>
          <p:cNvSpPr/>
          <p:nvPr/>
        </p:nvSpPr>
        <p:spPr>
          <a:xfrm>
            <a:off x="4214880" y="5143680"/>
            <a:ext cx="1500120" cy="571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Georgia"/>
              </a:rPr>
              <a:t>Oficina respons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Georgia"/>
              </a:rPr>
              <a:t>firma  contrato por c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Georgia"/>
              </a:rPr>
              <a:t>bien o serv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49"/>
          <p:cNvSpPr/>
          <p:nvPr/>
        </p:nvSpPr>
        <p:spPr>
          <a:xfrm flipV="1">
            <a:off x="4786200" y="489276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49"/>
          <p:cNvSpPr/>
          <p:nvPr/>
        </p:nvSpPr>
        <p:spPr>
          <a:xfrm>
            <a:off x="5286240" y="2571840"/>
            <a:ext cx="2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49"/>
          <p:cNvSpPr/>
          <p:nvPr/>
        </p:nvSpPr>
        <p:spPr>
          <a:xfrm>
            <a:off x="6462720" y="257184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49"/>
          <p:cNvSpPr/>
          <p:nvPr/>
        </p:nvSpPr>
        <p:spPr>
          <a:xfrm>
            <a:off x="7643880" y="257184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49"/>
          <p:cNvSpPr/>
          <p:nvPr/>
        </p:nvSpPr>
        <p:spPr>
          <a:xfrm>
            <a:off x="5286240" y="3000240"/>
            <a:ext cx="2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49"/>
          <p:cNvSpPr/>
          <p:nvPr/>
        </p:nvSpPr>
        <p:spPr>
          <a:xfrm>
            <a:off x="6462720" y="300024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49"/>
          <p:cNvSpPr/>
          <p:nvPr/>
        </p:nvSpPr>
        <p:spPr>
          <a:xfrm>
            <a:off x="7677000" y="3000240"/>
            <a:ext cx="2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49"/>
          <p:cNvSpPr/>
          <p:nvPr/>
        </p:nvSpPr>
        <p:spPr>
          <a:xfrm>
            <a:off x="5286240" y="3214800"/>
            <a:ext cx="2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49"/>
          <p:cNvSpPr/>
          <p:nvPr/>
        </p:nvSpPr>
        <p:spPr>
          <a:xfrm>
            <a:off x="5286240" y="3500280"/>
            <a:ext cx="2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49"/>
          <p:cNvSpPr/>
          <p:nvPr/>
        </p:nvSpPr>
        <p:spPr>
          <a:xfrm>
            <a:off x="7677000" y="3214800"/>
            <a:ext cx="2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49"/>
          <p:cNvSpPr/>
          <p:nvPr/>
        </p:nvSpPr>
        <p:spPr>
          <a:xfrm>
            <a:off x="6462720" y="321480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49"/>
          <p:cNvSpPr/>
          <p:nvPr/>
        </p:nvSpPr>
        <p:spPr>
          <a:xfrm>
            <a:off x="6429240" y="3429000"/>
            <a:ext cx="2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49"/>
          <p:cNvSpPr/>
          <p:nvPr/>
        </p:nvSpPr>
        <p:spPr>
          <a:xfrm>
            <a:off x="7677000" y="3429000"/>
            <a:ext cx="2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18 CuadroTexto"/>
          <p:cNvSpPr/>
          <p:nvPr/>
        </p:nvSpPr>
        <p:spPr>
          <a:xfrm>
            <a:off x="1500120" y="2786040"/>
            <a:ext cx="28728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18 CuadroTexto"/>
          <p:cNvSpPr/>
          <p:nvPr/>
        </p:nvSpPr>
        <p:spPr>
          <a:xfrm>
            <a:off x="2712960" y="150012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18 CuadroTexto"/>
          <p:cNvSpPr/>
          <p:nvPr/>
        </p:nvSpPr>
        <p:spPr>
          <a:xfrm>
            <a:off x="2428920" y="528624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18 CuadroTexto"/>
          <p:cNvSpPr/>
          <p:nvPr/>
        </p:nvSpPr>
        <p:spPr>
          <a:xfrm>
            <a:off x="2427120" y="4357800"/>
            <a:ext cx="287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18 CuadroTexto"/>
          <p:cNvSpPr/>
          <p:nvPr/>
        </p:nvSpPr>
        <p:spPr>
          <a:xfrm>
            <a:off x="5715000" y="531036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18 CuadroTexto"/>
          <p:cNvSpPr/>
          <p:nvPr/>
        </p:nvSpPr>
        <p:spPr>
          <a:xfrm>
            <a:off x="5356080" y="4881600"/>
            <a:ext cx="287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18 CuadroTexto"/>
          <p:cNvSpPr/>
          <p:nvPr/>
        </p:nvSpPr>
        <p:spPr>
          <a:xfrm>
            <a:off x="6784920" y="430992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18 CuadroTexto"/>
          <p:cNvSpPr/>
          <p:nvPr/>
        </p:nvSpPr>
        <p:spPr>
          <a:xfrm>
            <a:off x="7284960" y="192888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18 CuadroTexto"/>
          <p:cNvSpPr/>
          <p:nvPr/>
        </p:nvSpPr>
        <p:spPr>
          <a:xfrm>
            <a:off x="8286840" y="188136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6" name="Picture 77" descr=""/>
          <p:cNvPicPr/>
          <p:nvPr/>
        </p:nvPicPr>
        <p:blipFill>
          <a:blip r:embed="rId7"/>
          <a:stretch/>
        </p:blipFill>
        <p:spPr>
          <a:xfrm>
            <a:off x="66600" y="4757760"/>
            <a:ext cx="2433600" cy="14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70 CuadroTexto"/>
          <p:cNvSpPr/>
          <p:nvPr/>
        </p:nvSpPr>
        <p:spPr>
          <a:xfrm>
            <a:off x="285840" y="333360"/>
            <a:ext cx="84294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PROCESO DE EJECUCIÓN  2011 - Ejemp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2 Marcador de contenido"/>
          <p:cNvSpPr/>
          <p:nvPr/>
        </p:nvSpPr>
        <p:spPr>
          <a:xfrm>
            <a:off x="357120" y="857160"/>
            <a:ext cx="82868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eorgia"/>
              </a:rPr>
              <a:t>Proyectos por Contr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AutoShape 3"/>
          <p:cNvSpPr/>
          <p:nvPr/>
        </p:nvSpPr>
        <p:spPr>
          <a:xfrm>
            <a:off x="142920" y="2000160"/>
            <a:ext cx="928800" cy="642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Mar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Presupues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PIA - PI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alibri"/>
              </a:rPr>
              <a:t>S/.  100 000 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AutoShape 6"/>
          <p:cNvSpPr/>
          <p:nvPr/>
        </p:nvSpPr>
        <p:spPr>
          <a:xfrm>
            <a:off x="5715000" y="1500120"/>
            <a:ext cx="714240" cy="432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Georgia"/>
              </a:rPr>
              <a:t>Deveng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AutoShape 7"/>
          <p:cNvSpPr/>
          <p:nvPr/>
        </p:nvSpPr>
        <p:spPr>
          <a:xfrm>
            <a:off x="7858080" y="1571760"/>
            <a:ext cx="758880" cy="28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8"/>
          <p:cNvSpPr/>
          <p:nvPr/>
        </p:nvSpPr>
        <p:spPr>
          <a:xfrm>
            <a:off x="142920" y="1214280"/>
            <a:ext cx="2000160" cy="3214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9"/>
          <p:cNvSpPr/>
          <p:nvPr/>
        </p:nvSpPr>
        <p:spPr>
          <a:xfrm>
            <a:off x="428760" y="1500120"/>
            <a:ext cx="142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00"/>
                </a:solidFill>
                <a:latin typeface="Calibri"/>
              </a:rPr>
              <a:t>DGPP - DGA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10"/>
          <p:cNvSpPr/>
          <p:nvPr/>
        </p:nvSpPr>
        <p:spPr>
          <a:xfrm>
            <a:off x="2214720" y="1214280"/>
            <a:ext cx="4286160" cy="5143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13"/>
          <p:cNvSpPr/>
          <p:nvPr/>
        </p:nvSpPr>
        <p:spPr>
          <a:xfrm>
            <a:off x="7742160" y="1285920"/>
            <a:ext cx="1150920" cy="50720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20"/>
          <p:cNvSpPr/>
          <p:nvPr/>
        </p:nvSpPr>
        <p:spPr>
          <a:xfrm>
            <a:off x="2214720" y="2214720"/>
            <a:ext cx="6572160" cy="18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90 000 000    P a  10 000 000                          10 000 000                       4 000 000                       4 000 000                 4 000 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es-ES" sz="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     8 000 000                   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P c     9 000 000                  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P d   10 000 000                 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P e     3 000 000                          3 000 000                         1 000 000                        1 000 000                 1 000 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P r   50 000 000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AutoShape 28"/>
          <p:cNvSpPr/>
          <p:nvPr/>
        </p:nvSpPr>
        <p:spPr>
          <a:xfrm rot="16200000">
            <a:off x="2573280" y="3282480"/>
            <a:ext cx="73080" cy="647640"/>
          </a:xfrm>
          <a:custGeom>
            <a:avLst/>
            <a:gdLst>
              <a:gd name="textAreaLeft" fmla="*/ 46800 w 73080"/>
              <a:gd name="textAreaRight" fmla="*/ 73440 w 73080"/>
              <a:gd name="textAreaTop" fmla="*/ 7200 h 647640"/>
              <a:gd name="textAreaBottom" fmla="*/ 64044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2"/>
                  <a:pt x="10800" y="803"/>
                </a:cubicBezTo>
                <a:lnTo>
                  <a:pt x="10800" y="9997"/>
                </a:lnTo>
                <a:cubicBezTo>
                  <a:pt x="10800" y="10399"/>
                  <a:pt x="5400" y="10800"/>
                  <a:pt x="0" y="10800"/>
                </a:cubicBezTo>
                <a:cubicBezTo>
                  <a:pt x="5400" y="10800"/>
                  <a:pt x="10800" y="11202"/>
                  <a:pt x="10800" y="11603"/>
                </a:cubicBezTo>
                <a:lnTo>
                  <a:pt x="10800" y="20797"/>
                </a:lnTo>
                <a:cubicBezTo>
                  <a:pt x="10800" y="2119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AutoShape 52"/>
          <p:cNvSpPr/>
          <p:nvPr/>
        </p:nvSpPr>
        <p:spPr>
          <a:xfrm>
            <a:off x="4214880" y="4071960"/>
            <a:ext cx="1357200" cy="785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Georgia"/>
              </a:rPr>
              <a:t>La oficina  encargada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Georgia"/>
              </a:rPr>
              <a:t>compromete por 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Georgia"/>
              </a:rPr>
              <a:t>monto  total  previs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Georgia"/>
              </a:rPr>
              <a:t>por cada contra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Georgia"/>
              </a:rPr>
              <a:t>de  PI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54"/>
          <p:cNvSpPr/>
          <p:nvPr/>
        </p:nvSpPr>
        <p:spPr>
          <a:xfrm>
            <a:off x="4000680" y="114300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b400"/>
                </a:solidFill>
                <a:latin typeface="Calibri"/>
              </a:rPr>
              <a:t>PLIEGO  -  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AutoShape 4"/>
          <p:cNvSpPr/>
          <p:nvPr/>
        </p:nvSpPr>
        <p:spPr>
          <a:xfrm>
            <a:off x="2714760" y="5072040"/>
            <a:ext cx="1357200" cy="714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La oficina encarga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(infraestructur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solicita la certific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(PMI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AutoShape 28"/>
          <p:cNvSpPr/>
          <p:nvPr/>
        </p:nvSpPr>
        <p:spPr>
          <a:xfrm rot="16200000">
            <a:off x="3359880" y="3208680"/>
            <a:ext cx="73080" cy="792360"/>
          </a:xfrm>
          <a:custGeom>
            <a:avLst/>
            <a:gdLst>
              <a:gd name="textAreaLeft" fmla="*/ 46800 w 73080"/>
              <a:gd name="textAreaRight" fmla="*/ 73440 w 73080"/>
              <a:gd name="textAreaTop" fmla="*/ 7200 h 792360"/>
              <a:gd name="textAreaBottom" fmla="*/ 78516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9"/>
                  <a:pt x="10800" y="658"/>
                </a:cubicBezTo>
                <a:lnTo>
                  <a:pt x="10800" y="10142"/>
                </a:lnTo>
                <a:cubicBezTo>
                  <a:pt x="10800" y="10471"/>
                  <a:pt x="5400" y="10800"/>
                  <a:pt x="0" y="10800"/>
                </a:cubicBezTo>
                <a:cubicBezTo>
                  <a:pt x="5400" y="10800"/>
                  <a:pt x="10800" y="11129"/>
                  <a:pt x="10800" y="11458"/>
                </a:cubicBezTo>
                <a:lnTo>
                  <a:pt x="10800" y="20942"/>
                </a:lnTo>
                <a:cubicBezTo>
                  <a:pt x="10800" y="2127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AutoShape 5"/>
          <p:cNvGrpSpPr/>
          <p:nvPr/>
        </p:nvGrpSpPr>
        <p:grpSpPr>
          <a:xfrm>
            <a:off x="6645240" y="1523880"/>
            <a:ext cx="919080" cy="433440"/>
            <a:chOff x="6645240" y="1523880"/>
            <a:chExt cx="919080" cy="433440"/>
          </a:xfrm>
        </p:grpSpPr>
        <p:pic>
          <p:nvPicPr>
            <p:cNvPr id="903" name="AutoShape 5" descr=""/>
            <p:cNvPicPr/>
            <p:nvPr/>
          </p:nvPicPr>
          <p:blipFill>
            <a:blip r:embed="rId1"/>
            <a:stretch/>
          </p:blipFill>
          <p:spPr>
            <a:xfrm>
              <a:off x="6645240" y="1523880"/>
              <a:ext cx="91908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4" name=""/>
            <p:cNvSpPr/>
            <p:nvPr/>
          </p:nvSpPr>
          <p:spPr>
            <a:xfrm>
              <a:off x="6729480" y="1585800"/>
              <a:ext cx="75708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Georgia"/>
                </a:rPr>
                <a:t>Gir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5" name="Text Box 54"/>
          <p:cNvSpPr/>
          <p:nvPr/>
        </p:nvSpPr>
        <p:spPr>
          <a:xfrm>
            <a:off x="6786720" y="1285920"/>
            <a:ext cx="7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ccb400"/>
                </a:solidFill>
                <a:latin typeface="Calibri"/>
              </a:rPr>
              <a:t>DN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6" name="AutoShape 51"/>
          <p:cNvGrpSpPr/>
          <p:nvPr/>
        </p:nvGrpSpPr>
        <p:grpSpPr>
          <a:xfrm>
            <a:off x="1017720" y="1878120"/>
            <a:ext cx="1218960" cy="957240"/>
            <a:chOff x="1017720" y="1878120"/>
            <a:chExt cx="1218960" cy="957240"/>
          </a:xfrm>
        </p:grpSpPr>
        <p:pic>
          <p:nvPicPr>
            <p:cNvPr id="907" name="AutoShape 51" descr=""/>
            <p:cNvPicPr/>
            <p:nvPr/>
          </p:nvPicPr>
          <p:blipFill>
            <a:blip r:embed="rId2"/>
            <a:stretch/>
          </p:blipFill>
          <p:spPr>
            <a:xfrm>
              <a:off x="1017720" y="1878120"/>
              <a:ext cx="121896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8" name=""/>
            <p:cNvSpPr/>
            <p:nvPr/>
          </p:nvSpPr>
          <p:spPr>
            <a:xfrm>
              <a:off x="1254240" y="1968480"/>
              <a:ext cx="7776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Georgia"/>
                </a:rPr>
                <a:t>P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Georgia"/>
                </a:rPr>
                <a:t>Proyecto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Georgia"/>
                </a:rPr>
                <a:t>S/. 90 000 000</a:t>
              </a:r>
              <a:r>
                <a:rPr b="1" lang="es-MX" sz="1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9" name="AutoShape 5"/>
          <p:cNvGrpSpPr/>
          <p:nvPr/>
        </p:nvGrpSpPr>
        <p:grpSpPr>
          <a:xfrm>
            <a:off x="5486400" y="3882960"/>
            <a:ext cx="1444680" cy="1189080"/>
            <a:chOff x="5486400" y="3882960"/>
            <a:chExt cx="1444680" cy="1189080"/>
          </a:xfrm>
        </p:grpSpPr>
        <p:pic>
          <p:nvPicPr>
            <p:cNvPr id="910" name="AutoShape 5" descr=""/>
            <p:cNvPicPr/>
            <p:nvPr/>
          </p:nvPicPr>
          <p:blipFill>
            <a:blip r:embed="rId3"/>
            <a:stretch/>
          </p:blipFill>
          <p:spPr>
            <a:xfrm>
              <a:off x="5486400" y="3882960"/>
              <a:ext cx="144468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1" name=""/>
            <p:cNvSpPr/>
            <p:nvPr/>
          </p:nvSpPr>
          <p:spPr>
            <a:xfrm>
              <a:off x="5684760" y="3979800"/>
              <a:ext cx="1050840" cy="9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Georgia"/>
                </a:rPr>
                <a:t>Financiera deveng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Georgia"/>
                </a:rPr>
                <a:t>con la conformid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Georgia"/>
                </a:rPr>
                <a:t>de la  oficina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Georgia"/>
                </a:rPr>
                <a:t>Correspondiente,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Georgia"/>
                </a:rPr>
                <a:t>adelantos 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Georgia"/>
                </a:rPr>
                <a:t>valorizacion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2" name="55 Marcador de número de diapositiva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4D58-821F-49C9-9449-289ABD56B45B}" type="slidenum">
              <a:rPr b="0" lang="es-ES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54"/>
          <p:cNvSpPr/>
          <p:nvPr/>
        </p:nvSpPr>
        <p:spPr>
          <a:xfrm>
            <a:off x="7715160" y="1285920"/>
            <a:ext cx="128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b400"/>
                </a:solidFill>
                <a:latin typeface="Calibri"/>
              </a:rPr>
              <a:t>PLIEGO - 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13"/>
          <p:cNvSpPr/>
          <p:nvPr/>
        </p:nvSpPr>
        <p:spPr>
          <a:xfrm>
            <a:off x="6572160" y="1285920"/>
            <a:ext cx="1079640" cy="50720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5" name="AutoShape 51"/>
          <p:cNvGrpSpPr/>
          <p:nvPr/>
        </p:nvGrpSpPr>
        <p:grpSpPr>
          <a:xfrm>
            <a:off x="2530440" y="4022640"/>
            <a:ext cx="1797120" cy="933480"/>
            <a:chOff x="2530440" y="4022640"/>
            <a:chExt cx="1797120" cy="933480"/>
          </a:xfrm>
        </p:grpSpPr>
        <p:pic>
          <p:nvPicPr>
            <p:cNvPr id="916" name="AutoShape 51" descr=""/>
            <p:cNvPicPr/>
            <p:nvPr/>
          </p:nvPicPr>
          <p:blipFill>
            <a:blip r:embed="rId4"/>
            <a:stretch/>
          </p:blipFill>
          <p:spPr>
            <a:xfrm>
              <a:off x="2530440" y="4022640"/>
              <a:ext cx="179712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7" name=""/>
            <p:cNvSpPr/>
            <p:nvPr/>
          </p:nvSpPr>
          <p:spPr>
            <a:xfrm>
              <a:off x="2752560" y="4110120"/>
              <a:ext cx="13528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Georgia"/>
                </a:rPr>
                <a:t>La OPP de la UE certifica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Georgia"/>
                </a:rPr>
                <a:t>la existencia  de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Georgia"/>
                </a:rPr>
                <a:t>recursos por cad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s-ES" sz="1000" spc="-1" strike="noStrike">
                  <a:solidFill>
                    <a:srgbClr val="000000"/>
                  </a:solidFill>
                  <a:latin typeface="Georgia"/>
                </a:rPr>
                <a:t>P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8" name="AutoShape 4"/>
          <p:cNvSpPr/>
          <p:nvPr/>
        </p:nvSpPr>
        <p:spPr>
          <a:xfrm>
            <a:off x="3000240" y="1357200"/>
            <a:ext cx="792360" cy="503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Priori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49"/>
          <p:cNvSpPr/>
          <p:nvPr/>
        </p:nvSpPr>
        <p:spPr>
          <a:xfrm>
            <a:off x="6072120" y="1928880"/>
            <a:ext cx="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49"/>
          <p:cNvSpPr/>
          <p:nvPr/>
        </p:nvSpPr>
        <p:spPr>
          <a:xfrm>
            <a:off x="2071800" y="235728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49"/>
          <p:cNvSpPr/>
          <p:nvPr/>
        </p:nvSpPr>
        <p:spPr>
          <a:xfrm flipV="1">
            <a:off x="3429000" y="38574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6"/>
          <p:cNvSpPr/>
          <p:nvPr/>
        </p:nvSpPr>
        <p:spPr>
          <a:xfrm>
            <a:off x="1071720" y="2357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49"/>
          <p:cNvSpPr/>
          <p:nvPr/>
        </p:nvSpPr>
        <p:spPr>
          <a:xfrm>
            <a:off x="3429000" y="18558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49"/>
          <p:cNvSpPr/>
          <p:nvPr/>
        </p:nvSpPr>
        <p:spPr>
          <a:xfrm flipV="1">
            <a:off x="3429000" y="489276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AutoShape 28"/>
          <p:cNvSpPr/>
          <p:nvPr/>
        </p:nvSpPr>
        <p:spPr>
          <a:xfrm rot="16200000">
            <a:off x="4717080" y="3210120"/>
            <a:ext cx="73080" cy="792000"/>
          </a:xfrm>
          <a:custGeom>
            <a:avLst/>
            <a:gdLst>
              <a:gd name="textAreaLeft" fmla="*/ 46800 w 73080"/>
              <a:gd name="textAreaRight" fmla="*/ 73440 w 73080"/>
              <a:gd name="textAreaTop" fmla="*/ 7200 h 792000"/>
              <a:gd name="textAreaBottom" fmla="*/ 7848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9"/>
                  <a:pt x="10800" y="658"/>
                </a:cubicBezTo>
                <a:lnTo>
                  <a:pt x="10800" y="10142"/>
                </a:lnTo>
                <a:cubicBezTo>
                  <a:pt x="10800" y="10471"/>
                  <a:pt x="5400" y="10800"/>
                  <a:pt x="0" y="10800"/>
                </a:cubicBezTo>
                <a:cubicBezTo>
                  <a:pt x="5400" y="10800"/>
                  <a:pt x="10800" y="11129"/>
                  <a:pt x="10800" y="11458"/>
                </a:cubicBezTo>
                <a:lnTo>
                  <a:pt x="10800" y="20942"/>
                </a:lnTo>
                <a:cubicBezTo>
                  <a:pt x="10800" y="2127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49"/>
          <p:cNvSpPr/>
          <p:nvPr/>
        </p:nvSpPr>
        <p:spPr>
          <a:xfrm flipV="1">
            <a:off x="4786200" y="38574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7" name="AutoShape 5"/>
          <p:cNvGrpSpPr/>
          <p:nvPr/>
        </p:nvGrpSpPr>
        <p:grpSpPr>
          <a:xfrm>
            <a:off x="4218120" y="1523880"/>
            <a:ext cx="1060200" cy="579600"/>
            <a:chOff x="4218120" y="1523880"/>
            <a:chExt cx="1060200" cy="579600"/>
          </a:xfrm>
        </p:grpSpPr>
        <p:pic>
          <p:nvPicPr>
            <p:cNvPr id="928" name="AutoShape 5" descr=""/>
            <p:cNvPicPr/>
            <p:nvPr/>
          </p:nvPicPr>
          <p:blipFill>
            <a:blip r:embed="rId5"/>
            <a:stretch/>
          </p:blipFill>
          <p:spPr>
            <a:xfrm>
              <a:off x="4218120" y="1523880"/>
              <a:ext cx="106020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9" name=""/>
            <p:cNvSpPr/>
            <p:nvPr/>
          </p:nvSpPr>
          <p:spPr>
            <a:xfrm>
              <a:off x="4378320" y="1592280"/>
              <a:ext cx="7444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Georgia"/>
                </a:rPr>
                <a:t>Compromis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Georgia"/>
                </a:rPr>
                <a:t>Anu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Line 49"/>
          <p:cNvSpPr/>
          <p:nvPr/>
        </p:nvSpPr>
        <p:spPr>
          <a:xfrm>
            <a:off x="4786200" y="200016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49"/>
          <p:cNvSpPr/>
          <p:nvPr/>
        </p:nvSpPr>
        <p:spPr>
          <a:xfrm>
            <a:off x="3929040" y="235728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49"/>
          <p:cNvSpPr/>
          <p:nvPr/>
        </p:nvSpPr>
        <p:spPr>
          <a:xfrm>
            <a:off x="3929040" y="257184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49"/>
          <p:cNvSpPr/>
          <p:nvPr/>
        </p:nvSpPr>
        <p:spPr>
          <a:xfrm>
            <a:off x="3929040" y="278604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49"/>
          <p:cNvSpPr/>
          <p:nvPr/>
        </p:nvSpPr>
        <p:spPr>
          <a:xfrm>
            <a:off x="3929040" y="300024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AutoShape 28"/>
          <p:cNvSpPr/>
          <p:nvPr/>
        </p:nvSpPr>
        <p:spPr>
          <a:xfrm rot="16200000">
            <a:off x="5996520" y="3210120"/>
            <a:ext cx="73080" cy="792000"/>
          </a:xfrm>
          <a:custGeom>
            <a:avLst/>
            <a:gdLst>
              <a:gd name="textAreaLeft" fmla="*/ 46800 w 73080"/>
              <a:gd name="textAreaRight" fmla="*/ 73440 w 73080"/>
              <a:gd name="textAreaTop" fmla="*/ 7200 h 792000"/>
              <a:gd name="textAreaBottom" fmla="*/ 7848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9"/>
                  <a:pt x="10800" y="658"/>
                </a:cubicBezTo>
                <a:lnTo>
                  <a:pt x="10800" y="10142"/>
                </a:lnTo>
                <a:cubicBezTo>
                  <a:pt x="10800" y="10471"/>
                  <a:pt x="5400" y="10800"/>
                  <a:pt x="0" y="10800"/>
                </a:cubicBezTo>
                <a:cubicBezTo>
                  <a:pt x="5400" y="10800"/>
                  <a:pt x="10800" y="11129"/>
                  <a:pt x="10800" y="11458"/>
                </a:cubicBezTo>
                <a:lnTo>
                  <a:pt x="10800" y="20942"/>
                </a:lnTo>
                <a:cubicBezTo>
                  <a:pt x="10800" y="2127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49"/>
          <p:cNvSpPr/>
          <p:nvPr/>
        </p:nvSpPr>
        <p:spPr>
          <a:xfrm>
            <a:off x="5286240" y="2357280"/>
            <a:ext cx="2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49"/>
          <p:cNvSpPr/>
          <p:nvPr/>
        </p:nvSpPr>
        <p:spPr>
          <a:xfrm>
            <a:off x="5286240" y="2786040"/>
            <a:ext cx="2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49"/>
          <p:cNvSpPr/>
          <p:nvPr/>
        </p:nvSpPr>
        <p:spPr>
          <a:xfrm>
            <a:off x="6462720" y="235728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49"/>
          <p:cNvSpPr/>
          <p:nvPr/>
        </p:nvSpPr>
        <p:spPr>
          <a:xfrm>
            <a:off x="7072200" y="1857240"/>
            <a:ext cx="0" cy="2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49"/>
          <p:cNvSpPr/>
          <p:nvPr/>
        </p:nvSpPr>
        <p:spPr>
          <a:xfrm>
            <a:off x="6462720" y="278604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AutoShape 28"/>
          <p:cNvSpPr/>
          <p:nvPr/>
        </p:nvSpPr>
        <p:spPr>
          <a:xfrm rot="16200000">
            <a:off x="7068240" y="3210120"/>
            <a:ext cx="73080" cy="792360"/>
          </a:xfrm>
          <a:custGeom>
            <a:avLst/>
            <a:gdLst>
              <a:gd name="textAreaLeft" fmla="*/ 46800 w 73080"/>
              <a:gd name="textAreaRight" fmla="*/ 73440 w 73080"/>
              <a:gd name="textAreaTop" fmla="*/ 7200 h 792360"/>
              <a:gd name="textAreaBottom" fmla="*/ 78516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9"/>
                  <a:pt x="10800" y="658"/>
                </a:cubicBezTo>
                <a:lnTo>
                  <a:pt x="10800" y="10142"/>
                </a:lnTo>
                <a:cubicBezTo>
                  <a:pt x="10800" y="10471"/>
                  <a:pt x="5400" y="10800"/>
                  <a:pt x="0" y="10800"/>
                </a:cubicBezTo>
                <a:cubicBezTo>
                  <a:pt x="5400" y="10800"/>
                  <a:pt x="10800" y="11129"/>
                  <a:pt x="10800" y="11458"/>
                </a:cubicBezTo>
                <a:lnTo>
                  <a:pt x="10800" y="20942"/>
                </a:lnTo>
                <a:cubicBezTo>
                  <a:pt x="10800" y="2127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AutoShape 28"/>
          <p:cNvSpPr/>
          <p:nvPr/>
        </p:nvSpPr>
        <p:spPr>
          <a:xfrm rot="16200000">
            <a:off x="8217720" y="3210120"/>
            <a:ext cx="73080" cy="792360"/>
          </a:xfrm>
          <a:custGeom>
            <a:avLst/>
            <a:gdLst>
              <a:gd name="textAreaLeft" fmla="*/ 46800 w 73080"/>
              <a:gd name="textAreaRight" fmla="*/ 73440 w 73080"/>
              <a:gd name="textAreaTop" fmla="*/ 7200 h 792360"/>
              <a:gd name="textAreaBottom" fmla="*/ 78516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9"/>
                  <a:pt x="10800" y="658"/>
                </a:cubicBezTo>
                <a:lnTo>
                  <a:pt x="10800" y="10142"/>
                </a:lnTo>
                <a:cubicBezTo>
                  <a:pt x="10800" y="10471"/>
                  <a:pt x="5400" y="10800"/>
                  <a:pt x="0" y="10800"/>
                </a:cubicBezTo>
                <a:cubicBezTo>
                  <a:pt x="5400" y="10800"/>
                  <a:pt x="10800" y="11129"/>
                  <a:pt x="10800" y="11458"/>
                </a:cubicBezTo>
                <a:lnTo>
                  <a:pt x="10800" y="20942"/>
                </a:lnTo>
                <a:cubicBezTo>
                  <a:pt x="10800" y="2127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49"/>
          <p:cNvSpPr/>
          <p:nvPr/>
        </p:nvSpPr>
        <p:spPr>
          <a:xfrm>
            <a:off x="7643880" y="235728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49"/>
          <p:cNvSpPr/>
          <p:nvPr/>
        </p:nvSpPr>
        <p:spPr>
          <a:xfrm>
            <a:off x="7643880" y="278604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5" name="Picture 43" descr=""/>
          <p:cNvPicPr/>
          <p:nvPr/>
        </p:nvPicPr>
        <p:blipFill>
          <a:blip r:embed="rId6"/>
          <a:stretch/>
        </p:blipFill>
        <p:spPr>
          <a:xfrm>
            <a:off x="3714840" y="3643200"/>
            <a:ext cx="857160" cy="276480"/>
          </a:xfrm>
          <a:prstGeom prst="rect">
            <a:avLst/>
          </a:prstGeom>
          <a:ln w="0">
            <a:noFill/>
          </a:ln>
        </p:spPr>
      </p:pic>
      <p:sp>
        <p:nvSpPr>
          <p:cNvPr id="946" name="Line 49"/>
          <p:cNvSpPr/>
          <p:nvPr/>
        </p:nvSpPr>
        <p:spPr>
          <a:xfrm>
            <a:off x="3929040" y="321480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49"/>
          <p:cNvSpPr/>
          <p:nvPr/>
        </p:nvSpPr>
        <p:spPr>
          <a:xfrm>
            <a:off x="3929040" y="350028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AutoShape 52"/>
          <p:cNvSpPr/>
          <p:nvPr/>
        </p:nvSpPr>
        <p:spPr>
          <a:xfrm>
            <a:off x="4214880" y="5143680"/>
            <a:ext cx="1500120" cy="571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Georgia"/>
              </a:rPr>
              <a:t>Oficina respons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Georgia"/>
              </a:rPr>
              <a:t>firma  contrato por c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Georgia"/>
              </a:rPr>
              <a:t>PI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49"/>
          <p:cNvSpPr/>
          <p:nvPr/>
        </p:nvSpPr>
        <p:spPr>
          <a:xfrm flipV="1">
            <a:off x="4786200" y="489276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49"/>
          <p:cNvSpPr/>
          <p:nvPr/>
        </p:nvSpPr>
        <p:spPr>
          <a:xfrm>
            <a:off x="5286240" y="2571840"/>
            <a:ext cx="2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49"/>
          <p:cNvSpPr/>
          <p:nvPr/>
        </p:nvSpPr>
        <p:spPr>
          <a:xfrm>
            <a:off x="6462720" y="257184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49"/>
          <p:cNvSpPr/>
          <p:nvPr/>
        </p:nvSpPr>
        <p:spPr>
          <a:xfrm>
            <a:off x="7643880" y="257184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49"/>
          <p:cNvSpPr/>
          <p:nvPr/>
        </p:nvSpPr>
        <p:spPr>
          <a:xfrm>
            <a:off x="5286240" y="3000240"/>
            <a:ext cx="2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49"/>
          <p:cNvSpPr/>
          <p:nvPr/>
        </p:nvSpPr>
        <p:spPr>
          <a:xfrm>
            <a:off x="6462720" y="300024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49"/>
          <p:cNvSpPr/>
          <p:nvPr/>
        </p:nvSpPr>
        <p:spPr>
          <a:xfrm>
            <a:off x="7677000" y="3000240"/>
            <a:ext cx="2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49"/>
          <p:cNvSpPr/>
          <p:nvPr/>
        </p:nvSpPr>
        <p:spPr>
          <a:xfrm>
            <a:off x="5286240" y="3214800"/>
            <a:ext cx="2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49"/>
          <p:cNvSpPr/>
          <p:nvPr/>
        </p:nvSpPr>
        <p:spPr>
          <a:xfrm>
            <a:off x="5286240" y="3500280"/>
            <a:ext cx="2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49"/>
          <p:cNvSpPr/>
          <p:nvPr/>
        </p:nvSpPr>
        <p:spPr>
          <a:xfrm>
            <a:off x="7677000" y="3214800"/>
            <a:ext cx="2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49"/>
          <p:cNvSpPr/>
          <p:nvPr/>
        </p:nvSpPr>
        <p:spPr>
          <a:xfrm>
            <a:off x="6462720" y="321480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49"/>
          <p:cNvSpPr/>
          <p:nvPr/>
        </p:nvSpPr>
        <p:spPr>
          <a:xfrm>
            <a:off x="6500880" y="342900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49"/>
          <p:cNvSpPr/>
          <p:nvPr/>
        </p:nvSpPr>
        <p:spPr>
          <a:xfrm>
            <a:off x="7677000" y="3429000"/>
            <a:ext cx="2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18 CuadroTexto"/>
          <p:cNvSpPr/>
          <p:nvPr/>
        </p:nvSpPr>
        <p:spPr>
          <a:xfrm>
            <a:off x="1500120" y="2786040"/>
            <a:ext cx="28728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18 CuadroTexto"/>
          <p:cNvSpPr/>
          <p:nvPr/>
        </p:nvSpPr>
        <p:spPr>
          <a:xfrm>
            <a:off x="2712960" y="150012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18 CuadroTexto"/>
          <p:cNvSpPr/>
          <p:nvPr/>
        </p:nvSpPr>
        <p:spPr>
          <a:xfrm>
            <a:off x="2428920" y="528624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18 CuadroTexto"/>
          <p:cNvSpPr/>
          <p:nvPr/>
        </p:nvSpPr>
        <p:spPr>
          <a:xfrm>
            <a:off x="2427120" y="4357800"/>
            <a:ext cx="287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18 CuadroTexto"/>
          <p:cNvSpPr/>
          <p:nvPr/>
        </p:nvSpPr>
        <p:spPr>
          <a:xfrm>
            <a:off x="5715000" y="531036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18 CuadroTexto"/>
          <p:cNvSpPr/>
          <p:nvPr/>
        </p:nvSpPr>
        <p:spPr>
          <a:xfrm>
            <a:off x="5356080" y="4809960"/>
            <a:ext cx="287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18 CuadroTexto"/>
          <p:cNvSpPr/>
          <p:nvPr/>
        </p:nvSpPr>
        <p:spPr>
          <a:xfrm>
            <a:off x="6784920" y="430992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18 CuadroTexto"/>
          <p:cNvSpPr/>
          <p:nvPr/>
        </p:nvSpPr>
        <p:spPr>
          <a:xfrm>
            <a:off x="7284960" y="192888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18 CuadroTexto"/>
          <p:cNvSpPr/>
          <p:nvPr/>
        </p:nvSpPr>
        <p:spPr>
          <a:xfrm>
            <a:off x="8286840" y="188136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1" name="Picture 2" descr=""/>
          <p:cNvPicPr/>
          <p:nvPr/>
        </p:nvPicPr>
        <p:blipFill>
          <a:blip r:embed="rId7"/>
          <a:stretch/>
        </p:blipFill>
        <p:spPr>
          <a:xfrm>
            <a:off x="71280" y="4573440"/>
            <a:ext cx="26226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5:02:21Z</dcterms:created>
  <dc:creator>Jdavila</dc:creator>
  <dc:description/>
  <dc:language>en-US</dc:language>
  <cp:lastModifiedBy>Lenovo User</cp:lastModifiedBy>
  <dcterms:modified xsi:type="dcterms:W3CDTF">2010-12-15T16:35:44Z</dcterms:modified>
  <cp:revision>365</cp:revision>
  <dc:subject/>
  <dc:title>Diapositiva 1</dc:title>
</cp:coreProperties>
</file>